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8.xml.rels" ContentType="application/vnd.openxmlformats-package.relationships+xml"/>
  <Override PartName="/ppt/notesSlides/_rels/notesSlide28.xml.rels" ContentType="application/vnd.openxmlformats-package.relationships+xml"/>
  <Override PartName="/ppt/notesSlides/notesSlide28.xml" ContentType="application/vnd.openxmlformats-officedocument.presentationml.notesSlide+xml"/>
  <Override PartName="/ppt/notesSlides/notesSlide58.xml" ContentType="application/vnd.openxmlformats-officedocument.presentationml.notesSlid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0.wmf" ContentType="image/x-wmf"/>
  <Override PartName="/ppt/media/image2.png" ContentType="image/png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896760" y="741240"/>
            <a:ext cx="4950000" cy="371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s-A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705F44A-5F4E-43FD-8D25-14AF445A39C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99218D4-CFC6-43AC-A538-FC3C65977E88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884160" y="7588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06480" y="4707000"/>
            <a:ext cx="4914720" cy="449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3820680" y="93992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383F638-1273-45C9-89EF-CABAE9C593B4}" type="slidenum"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0" y="93992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C4AD-B58F-4FDE-863B-9485D0F0F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BEA5-91AB-41F0-8B9D-3B6798EE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72E0-BBC3-4EF8-B9DE-264C05D53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C446-A61C-4035-B1E1-1D4BB87E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B077-D695-4EEC-A81C-D2EF9A848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213E-4F48-4362-8ABE-7A88F9D4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22F-5B1A-4390-87BC-6CAB1CEBC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0B0-1065-44A4-AD80-20B3318C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4598-662B-4E99-9030-C6F2D56F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AC3-2A8D-4164-920B-C4640A4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BB06-3CAA-425A-AD5E-D6BA5013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3585-7A08-4788-9619-389A11884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7FEF-4368-4F7A-9F16-015B64E340B3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920" y="1858680"/>
            <a:ext cx="684216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000000"/>
                </a:solidFill>
                <a:latin typeface="Times New Roman"/>
              </a:rPr>
              <a:t>Cobertura de los sistemas de protección social: definiciones, fuentes de datos,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03280" y="5587920"/>
            <a:ext cx="374508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Fabio Durán Valver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ficina Internacional del Trabajo</a:t>
            </a:r>
            <a:br>
              <a:rPr sz="1600"/>
            </a:b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OSRA, Per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00000" y="4081320"/>
            <a:ext cx="72741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Curso Estrategias para la extensión de la protección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San José, Costa Rica, julio de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3924360" y="936720"/>
            <a:ext cx="107928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01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00"/>
                </a:solidFill>
                <a:latin typeface="Times New Roman"/>
              </a:rPr>
              <a:t>Medición de la cobertura de pen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420640"/>
            <a:ext cx="7772400" cy="39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radicionalmente dos tipos de medic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la fuerza laboral que cotiza: alcance de cobertura con vinculación labo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Proporción de adultos mayores jubilados /pensionado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4876920"/>
            <a:ext cx="3124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5915160"/>
            <a:ext cx="4038480" cy="4597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Extensión de la cobertur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E279-F538-47D9-AE5A-BDE02763E7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Cobertura en pensiones según modelo de financiamie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76280"/>
            <a:ext cx="7772400" cy="38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Beneficio defi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ción definida (cuentas individuales, ahorro individu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C4FE-992C-4F48-80A1-EC99E7DCEF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de pensiones en adultos may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33520" y="2708280"/>
            <a:ext cx="77724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el desempeño del mercado laboral y la protección que otorgaban los sistemas contributivos en funcionamiento décadas atrá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fleja la protección que brinda el componente no contributivo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6DD6-5C0D-46FD-89AA-9A9ABEF8BF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Proporción de cotizantes es un indicador parcial e incompleto para medir cobertura de riesgos de vejez, invalidez y sobreviv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cotizante (durante un período) puede no necesariamente tener derecho a pen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un no cotizante puede estar cubierto (con derecho consolidad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50F6-FEC7-4688-9B2C-65F9C7A773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Medición de cobertura en sistemas contributivos de capitalización individ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0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n regímenes de capitalización individual debería contemplarse la diferencia entre el saldo efectivo y el saldo teórico para un determinado nivel de pensión obje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gímenes cuentan con garantías estatales (pensiones mínimas) y/o están insertos en esquemas mixtos, consecuentemente hay “no linealidades” en la cober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6ED1-C0C8-4DF1-AF70-43249381B1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En resumen: la medición de cobertura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be medir no sólo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Exten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antidad de trabajadores/personas cubier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cotizante/beneficiario, cónyuge, hijos men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Sino también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2800" spc="-1" strike="noStrike">
                <a:solidFill>
                  <a:srgbClr val="000000"/>
                </a:solidFill>
                <a:latin typeface="Times New Roman"/>
              </a:rPr>
              <a:t>Profund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ivel de prestaciones actuales/poten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31C-2830-4761-9FD2-68E21E335A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rincipales fuentes de da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Registros administrativos institucio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hog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de ingresos y gas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ncuesta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4360" y="530064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Necesidad de combinar datos de diversas fuentes para la construcción de indicadores.  Precaución al combinar fuentes de da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FE2-1353-4D21-90FA-23B0EBB087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Registros administrativos: lo míni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Ubicación geográfica (de la empresa / de la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 (número de emplead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Ot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8595-D3C8-4FA6-864A-1DE02D9DD4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4920" y="1763640"/>
            <a:ext cx="2592360" cy="1160640"/>
          </a:xfrm>
          <a:prstGeom prst="rect">
            <a:avLst/>
          </a:prstGeom>
          <a:solidFill>
            <a:srgbClr val="9fc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Uruguay: ¿En este trabajo tiene derecho a jubil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3068640"/>
            <a:ext cx="2606760" cy="1584360"/>
          </a:xfrm>
          <a:prstGeom prst="rect">
            <a:avLst/>
          </a:prstGeom>
          <a:solidFill>
            <a:srgbClr val="ff9f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erú: ¿Ud. actualmente está afiliado a : ESSALUD ( antes IPSS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sSalu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0000"/>
                </a:solidFill>
                <a:latin typeface="Times New Roman"/>
              </a:rPr>
              <a:t>-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4724280"/>
            <a:ext cx="2592360" cy="1909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Panamá:  Categoría de aseguramient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tizante y jubilado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enefici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No cotizante a la seguridad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1773360"/>
            <a:ext cx="2606760" cy="266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cuador: Está afiliado o cubierto por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Campesi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ingu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Medicina Preven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ESS Seguro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ISSFA, ISSP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eguro de salud priv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925960" y="1773360"/>
            <a:ext cx="2967120" cy="4813200"/>
          </a:xfrm>
          <a:prstGeom prst="rect">
            <a:avLst/>
          </a:prstGeom>
          <a:solidFill>
            <a:srgbClr val="6de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500" spc="-1" strike="noStrike">
                <a:solidFill>
                  <a:srgbClr val="000000"/>
                </a:solidFill>
                <a:latin typeface="Times New Roman"/>
              </a:rPr>
              <a:t>Costa Rica: ¿qué tipo de seguro social tiene?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   Asalari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2   Mediante Conven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3   Cuenta Prop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4   Por el Est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5   Familiar de Asegurado Direct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6   Régimen No Contributivo Monto Básic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7   Pensionado Régimen IVM de la CCS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8   Familiar de Pension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   Otras Form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0  No Asegurad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1  Régimen No Contributivo de Gracia o Guerr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12  Régimen Magisterio, Poder Judicial, Haciend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Times New Roman"/>
              </a:rPr>
              <a:t>99  Ignorado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05080" y="4581360"/>
            <a:ext cx="2519280" cy="201636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Argentina: ¿para este trabajo tiene descuento jubilatori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592-A58A-4851-90BC-729B8AA863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efinic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50920" y="1773360"/>
            <a:ext cx="2952720" cy="3024000"/>
          </a:xfrm>
          <a:prstGeom prst="rect">
            <a:avLst/>
          </a:prstGeom>
          <a:solidFill>
            <a:srgbClr val="f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hile: ¿A qué sistema previsional de salud pertenece us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0 S. público Grupo A (indigen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1 S. público Grup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2 S. público Grupo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 S. público Grupo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4 S. público No sabe el gru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 FF AA y del Or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6 ISAP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7 Particul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341280"/>
            <a:ext cx="81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3200" spc="-1" strike="noStrike">
                <a:solidFill>
                  <a:srgbClr val="000000"/>
                </a:solidFill>
                <a:latin typeface="Times New Roman"/>
              </a:rPr>
              <a:t>Las preguntas para estimar cobertura en las encuestas de hogares en 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5375160"/>
            <a:ext cx="2952720" cy="13669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Brasi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ão contribui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em decla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72360" y="1773360"/>
            <a:ext cx="2520720" cy="4898880"/>
          </a:xfrm>
          <a:prstGeom prst="rect">
            <a:avLst/>
          </a:prstGeom>
          <a:solidFill>
            <a:srgbClr val="97ff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Méx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M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En el trabajo principal de la semana pasada, cuáles de las siguientes prestaciones le dan..</a:t>
            </a:r>
            <a:r>
              <a:rPr b="1" lang="es-CR" sz="1600" spc="-1" strike="noStrike">
                <a:solidFill>
                  <a:srgbClr val="000000"/>
                </a:solidFill>
                <a:latin typeface="Times New Roman"/>
              </a:rPr>
              <a:t>ISSS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No decla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-Si</a:t>
            </a: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33600" y="1773360"/>
            <a:ext cx="2967120" cy="50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Colombia: esta afiliado al régimen contributivo o subsidiado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Contribu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No sa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-Subsidia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¿Quién paga mensualmente por la afiliació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Le descuentan de la nómina o sal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ap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Es beneficiario de algún famili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empresa empresa donde trab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Paga la totalidad de su afil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-No sabe no infor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8D28-7335-4A20-821F-F12A9689C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Ejemplo Costa Rica: Encuesta Hogares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050920" y="981000"/>
            <a:ext cx="4980240" cy="587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699F-F512-4227-A32A-DEAFCF51EEF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Datos de cober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35520" y="571320"/>
            <a:ext cx="832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Latinoamérica. % de ocupados con protección social contributiva basada en el empleo (2005).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24000" y="1135080"/>
            <a:ext cx="8748720" cy="5499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96280" y="6363360"/>
            <a:ext cx="697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de hogares SIAL/OIT, 200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B94B-5D4A-49DF-9435-9774211F29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71720" y="663480"/>
            <a:ext cx="5732280" cy="5823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12400" y="6395760"/>
            <a:ext cx="4547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Fuente: Durán Valverde, Fabio.  Elaboración basada en encuestas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de hogares SIAL/OIT, 2005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56600" y="315000"/>
            <a:ext cx="775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Latinoamérica (países seleccionados): % de ocupados cotizantes a seguridad social en salud (2005)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EDA9-51B7-4661-A900-A7AE0026113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0" y="1981080"/>
          <a:ext cx="8763120" cy="371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81080"/>
                    <a:ext cx="8763120" cy="37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DDA10-FCD1-4603-B90B-6939A6F34B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 ocup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7200" y="2209680"/>
          <a:ext cx="845820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45820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B02-AECC-47B0-B74C-2F2EA139329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3125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tizantes en relaci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a la PEA ocupada asalariada</a:t>
            </a: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22200" y="57913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80880" y="2389320"/>
          <a:ext cx="8077320" cy="342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89320"/>
                    <a:ext cx="807732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5B52-B5AC-46C3-B0D2-E6A8888653B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77796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00000" y="1574640"/>
            <a:ext cx="720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184464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57520" y="3876840"/>
            <a:ext cx="3620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28600" y="592200"/>
          <a:ext cx="8640720" cy="6265800"/>
        </p:xfrm>
        <a:graphic>
          <a:graphicData uri="http://schemas.openxmlformats.org/drawingml/2006/table">
            <a:tbl>
              <a:tblPr/>
              <a:tblGrid>
                <a:gridCol w="2511360"/>
                <a:gridCol w="1298520"/>
                <a:gridCol w="1230480"/>
                <a:gridCol w="1184400"/>
                <a:gridCol w="1209600"/>
                <a:gridCol w="120636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NS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lvl="1" marL="743040" indent="-28584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PREVISIO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í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intil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5/Q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bertur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ul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y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 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genti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olivia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rasil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ile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8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lombia (1999/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8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.3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a Ric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cuador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uatemala (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xico (200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icaragua (200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nama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ú (200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p. Dominican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ruguay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7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ezuela (2004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09600">
                <a:tc gridSpan="6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ente: Elaboración basada en Rofman (2005), Rofman y Luchetti (2005) y otras fuent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C3F9-1010-4F29-8BF6-8571BB1FCA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Cobertura tradicional de pen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32000" y="3068640"/>
            <a:ext cx="6719760" cy="825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Buena aproximación de la extensión pero ciertamente insuficient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A7E-032B-42B1-8F86-E2CD05F56BD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Algunas definiciones de pobl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n edad de trabaj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Activa (PEA) o fuerza de tra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oblación Económicamente Inactiva (PEI): menores, adultos mayores, otros colectivos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Indicadores básicos: TBP, tasas refinadas de actividad, dependencia demográfica, ot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E79-1CEB-4BF3-A482-8B19ECCF8A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Times New Roman"/>
              </a:rPr>
              <a:t>Cobertura Previsional (pensiones) en Chile: Población 65 años y má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0" y="1371600"/>
          <a:ext cx="723888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723888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2590920" y="1828800"/>
            <a:ext cx="144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43200" y="1676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5.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6765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79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3048120"/>
            <a:ext cx="2057400" cy="3035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ntributivo disminuye (67.1 a 64.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no contrib. aumenta (8.3 a 14.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4B24-3CC1-4C8D-AC3C-C28E41DDB19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79866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Lationamérica: cobertura de pensiones en los adultos may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1400" y="610704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0" y="2090880"/>
          <a:ext cx="8839080" cy="3765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90880"/>
                    <a:ext cx="8839080" cy="37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2751-F71B-48BB-B177-A2AF49D608B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685800" y="1828800"/>
          <a:ext cx="7772400" cy="40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772400" cy="40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AD3D-07C7-48D7-8D4B-B3F0D1104A3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rasi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204920" y="2209680"/>
          <a:ext cx="7213680" cy="36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4920" y="2209680"/>
                    <a:ext cx="721368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6C6-29A5-4092-B865-ED0120F6CF2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Bolivia y Chile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F8E-EB2D-4780-BB23-6C1D381CD5C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en Costa Rica y Ecuador: componentes contributivos y no contributiv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3600" y="6248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14400" y="2284560"/>
          <a:ext cx="7467480" cy="381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4560"/>
                    <a:ext cx="7467480" cy="381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16DC-6084-4532-B452-9A309FB172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Bolivia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BBD-D9BB-4437-B4DC-9F91679863D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8080" y="1142640"/>
            <a:ext cx="7772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Cobertura de pensiones por quintiles de ingreso: Chile</a:t>
            </a:r>
            <a:br>
              <a:rPr sz="4000"/>
            </a:br>
            <a:r>
              <a:rPr b="0" lang="es-CL" sz="4000" spc="-1" strike="noStrike">
                <a:solidFill>
                  <a:srgbClr val="000000"/>
                </a:solidFill>
                <a:latin typeface="Times New Roman"/>
              </a:rPr>
              <a:t>Año 200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8680" y="5105520"/>
            <a:ext cx="233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Fuente: Rofman y Lucchetti (200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4920" y="3076560"/>
          <a:ext cx="8686800" cy="150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076560"/>
                    <a:ext cx="868680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2A57-0C81-42EB-A679-909D58FE5E1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9280" y="1398600"/>
            <a:ext cx="8915400" cy="555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29C-8EDD-4D3B-8296-7A396DA20D5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200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2360" y="1844640"/>
            <a:ext cx="84963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70F3-0AC4-402B-BA36-A0C7836C50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000000"/>
                </a:solidFill>
                <a:latin typeface="Times New Roman"/>
              </a:rPr>
              <a:t>Clasificaciones principales para el análisis de la cobertura de la pobl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ctor institucional: público / priv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Rama de actividad económica (producto/servicio princip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Categoría ocupacional: inser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Tamaño de establ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reza / niveles de ingr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Ámbito geográfico: urbano/rural, territorios administrativos, territorios de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Formal / inf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Poblaciones tradicionalmente marginadas: indígen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Sex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Times New Roman"/>
              </a:rPr>
              <a:t>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D58D-07B6-40C8-87D6-05088FA27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anamá (1997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52280" y="1873080"/>
            <a:ext cx="8915400" cy="494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3D9D-E90B-4DC2-9644-15F83D39925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95280" y="1623960"/>
          <a:ext cx="7921800" cy="482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3960"/>
                    <a:ext cx="792180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D29-6C4B-4447-94BD-962C550370B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69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79640" y="1562040"/>
          <a:ext cx="4673520" cy="5106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562040"/>
                    <a:ext cx="4673520" cy="510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1F7A-9456-4332-81ED-40A4C352F2D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935000"/>
            <a:ext cx="4581360" cy="425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3" name=""/>
          <p:cNvGraphicFramePr/>
          <p:nvPr/>
        </p:nvGraphicFramePr>
        <p:xfrm>
          <a:off x="4500720" y="1916280"/>
          <a:ext cx="4643280" cy="4325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1916280"/>
                    <a:ext cx="4643280" cy="43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Guatemala 199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5960" y="6235560"/>
            <a:ext cx="660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Fuente: (PNUD. Durán, Fabio). Encuesta Nacional de Ingresos y Gastos Familiares, 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1129-67E8-4761-9C4F-176AF3887C8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71640" y="1952640"/>
            <a:ext cx="7272360" cy="38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4558-D241-4011-A80D-42572A42CD32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Perú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6560" y="2174760"/>
            <a:ext cx="8209080" cy="4062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08960" y="6261120"/>
            <a:ext cx="750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600" spc="-1" strike="noStrike">
                <a:solidFill>
                  <a:srgbClr val="000000"/>
                </a:solidFill>
                <a:latin typeface="Times New Roman"/>
              </a:rPr>
              <a:t>Fuente: OIT. Durán, Fabio.  Estudio financiero-actuarial y de la gestión de EsSalud, 200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6269-F56B-4CD4-BF59-C7419A4A819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556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sta Rica: 1993-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332000" y="1222200"/>
            <a:ext cx="6048360" cy="553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3368-AD90-415C-BE44-7CEC33C3830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22360" y="1440000"/>
            <a:ext cx="6605640" cy="548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0BA8-6B54-4C13-8FD0-B4CAE60DDF2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Ecuador 200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08000" y="2673360"/>
            <a:ext cx="9001080" cy="3102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3C8-7CF5-4B26-AB0B-9B2A1EEA4EC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539640" y="1844640"/>
            <a:ext cx="7705800" cy="482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ductiva: sector primario, secundario, terciario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alidades de inserción productiva: categoría ocupacional y sector institucional (público / privad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año relativo de la economía formal versus economía inf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idad / disp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contribu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spcAft>
                <a:spcPts val="9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estructurales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programá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o jurídico (compulsión e inspec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ciencias en la gestión –percepción de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ltura previs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000" spc="-1" strike="noStrike">
                <a:solidFill>
                  <a:srgbClr val="000000"/>
                </a:solidFill>
                <a:latin typeface="Times New Roman"/>
              </a:rPr>
              <a:t>Algunos factores explicativos de la cobertura (resume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1EF-FEE1-49F2-8A53-A5D3563ADE3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adhesión a los sistemas de seguridad soc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93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directo (asalariado, no asalariado, con subsidio estatal o no contributiv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indirecto (protección familia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fili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tizante (aportación activa vig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Asegurado (con derecho consolidado a la pres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4C2E-DB94-4F7A-B4CF-C736C6C019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Times New Roman"/>
              </a:rPr>
              <a:t>Algunos tópicos relacionados con cober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91F6-FA6D-4567-B93B-38F357F7E54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26920" y="878040"/>
            <a:ext cx="8137800" cy="5557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158120" y="6451560"/>
            <a:ext cx="42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0000"/>
                </a:solidFill>
                <a:latin typeface="Times New Roman"/>
              </a:rPr>
              <a:t>Durán, Fabio. </a:t>
            </a:r>
            <a:r>
              <a:rPr b="0" i="1" lang="es-PE" sz="1400" spc="-1" strike="noStrike">
                <a:solidFill>
                  <a:srgbClr val="000000"/>
                </a:solidFill>
                <a:latin typeface="Times New Roman"/>
              </a:rPr>
              <a:t>Encuestas de hogares, SIAL/OIT Panamá.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B20-C37F-45D8-867E-598731AEDFB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Times New Roman"/>
              </a:rPr>
              <a:t>Diferentes densidades de cotización por sexo, generarán diferentes niveles de pensión, especialmente en cuentas individuales (inequidad de gén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-34920" y="2163600"/>
            <a:ext cx="5111640" cy="408780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3852720" y="2182680"/>
            <a:ext cx="5232600" cy="40467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95280" y="3213000"/>
            <a:ext cx="756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4439-FE68-47DC-AED4-C7097EF3EBA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9836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El aumento de la longevidad es un reto para la cobertura en los sistemas de pen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189080" y="2208240"/>
            <a:ext cx="6983280" cy="48211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166760" y="1508040"/>
            <a:ext cx="7508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Esperanza de vida a los 65 años y variación, según sexo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aíses seleccionados,  1960-205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5E1A-1DE5-40A1-A861-A21E3B79EDDC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684360" y="1125360"/>
            <a:ext cx="7848360" cy="546264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5640" y="63756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arreras salariales en ramas económicas seleccionadas. Costa Rica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6680" y="6538320"/>
            <a:ext cx="280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Fuente: CCSS, Dirección Actuarial, 2006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6DC1-B8F0-499D-88DD-F4F86FEC212C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056360" cy="47037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468360" y="3500280"/>
            <a:ext cx="7164360" cy="477684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372360" y="620640"/>
            <a:ext cx="2447640" cy="51980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cumulación de “derechos” previsionales a lo largo del ciclo laboral para hombres y muje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5466-525F-47FD-96B0-D83976AD54A7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3860640"/>
            <a:ext cx="5796000" cy="3864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4643280" y="765000"/>
            <a:ext cx="5904000" cy="39373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427640" y="3789360"/>
            <a:ext cx="6192720" cy="41274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24000" y="765000"/>
            <a:ext cx="4103640" cy="2712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Regímenes de pensiones contributiv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ños aportados al sistema previsional para hombres y mujeres a la edad legal de ret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</a:rPr>
              <a:t>Argentina, Encuesta de Condiciones de Vida 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69F-91AF-474E-8647-B0E78324DA5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482840" y="4467240"/>
            <a:ext cx="1152360" cy="2448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14480" y="361800"/>
            <a:ext cx="9032760" cy="6595920"/>
            <a:chOff x="114480" y="361800"/>
            <a:chExt cx="9032760" cy="6595920"/>
          </a:xfrm>
        </p:grpSpPr>
        <p:sp>
          <p:nvSpPr>
            <p:cNvPr id="222" name=""/>
            <p:cNvSpPr/>
            <p:nvPr/>
          </p:nvSpPr>
          <p:spPr>
            <a:xfrm>
              <a:off x="114480" y="361800"/>
              <a:ext cx="9032760" cy="65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98280" y="57416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998280" y="51940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998280" y="46591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98280" y="41115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998280" y="357624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98280" y="302868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98280" y="249372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98280" y="194616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98280" y="1411200"/>
              <a:ext cx="801504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98280" y="1411200"/>
              <a:ext cx="8015040" cy="4865400"/>
            </a:xfrm>
            <a:prstGeom prst="rect">
              <a:avLst/>
            </a:prstGeom>
            <a:noFill/>
            <a:ln cap="sq" w="11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20600" y="4190760"/>
              <a:ext cx="44280" cy="20858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109520" y="4501800"/>
              <a:ext cx="44280" cy="177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98440" y="4736880"/>
              <a:ext cx="44280" cy="1539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88800" y="4993920"/>
              <a:ext cx="44280" cy="12826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77720" y="5205240"/>
              <a:ext cx="44280" cy="1071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466640" y="5249520"/>
              <a:ext cx="44280" cy="1027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57360" y="5406840"/>
              <a:ext cx="43920" cy="8697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646280" y="5451120"/>
              <a:ext cx="43920" cy="825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35200" y="5584680"/>
              <a:ext cx="43920" cy="691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25560" y="5573520"/>
              <a:ext cx="43920" cy="7030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14480" y="5562360"/>
              <a:ext cx="4392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03400" y="5518080"/>
              <a:ext cx="43920" cy="758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93760" y="5562360"/>
              <a:ext cx="44280" cy="714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82680" y="5640120"/>
              <a:ext cx="4428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71600" y="5640120"/>
              <a:ext cx="45720" cy="636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361960" y="5663880"/>
              <a:ext cx="33120" cy="612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440080" y="5719680"/>
              <a:ext cx="4392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2864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19360" y="5741640"/>
              <a:ext cx="4392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08280" y="5763960"/>
              <a:ext cx="43920" cy="512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797200" y="5752800"/>
              <a:ext cx="43920" cy="523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87560" y="5741640"/>
              <a:ext cx="44280" cy="534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976480" y="5808240"/>
              <a:ext cx="4392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065400" y="5775120"/>
              <a:ext cx="43920" cy="5014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15576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4468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333600" y="5819400"/>
              <a:ext cx="44280" cy="4572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4243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512880" y="5808240"/>
              <a:ext cx="44280" cy="4683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0180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2520" y="5852880"/>
              <a:ext cx="4392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781440" y="5886360"/>
              <a:ext cx="439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8703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96072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9640" y="5841720"/>
              <a:ext cx="439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1385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28920" y="5852880"/>
              <a:ext cx="44280" cy="4237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317840" y="5830560"/>
              <a:ext cx="44280" cy="4460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06760" y="5864040"/>
              <a:ext cx="4572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497480" y="5908320"/>
              <a:ext cx="439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86040" y="5952960"/>
              <a:ext cx="44280" cy="3236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674960" y="5875200"/>
              <a:ext cx="457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765680" y="5941800"/>
              <a:ext cx="439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5460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435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33880" y="5897160"/>
              <a:ext cx="331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11164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005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290920" y="5897160"/>
              <a:ext cx="4428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37984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68760" y="5886360"/>
              <a:ext cx="4428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4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6484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3696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82768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1660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0552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95880" y="5908320"/>
              <a:ext cx="4428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18480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2737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64080" y="5919480"/>
              <a:ext cx="4428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53000" y="5941800"/>
              <a:ext cx="4428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41920" y="5886360"/>
              <a:ext cx="45720" cy="3902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326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21560" y="5897160"/>
              <a:ext cx="439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810120" y="5919480"/>
              <a:ext cx="457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900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989760" y="5875200"/>
              <a:ext cx="4392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078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69040" y="5930640"/>
              <a:ext cx="4428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57960" y="5919480"/>
              <a:ext cx="43920" cy="3571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346880" y="5897160"/>
              <a:ext cx="45720" cy="37944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437240" y="5797440"/>
              <a:ext cx="44280" cy="4791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526160" y="5841720"/>
              <a:ext cx="4428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615080" y="5941800"/>
              <a:ext cx="45720" cy="3348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705800" y="5908320"/>
              <a:ext cx="3276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7835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872480" y="5930640"/>
              <a:ext cx="4536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6284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051760" y="5930640"/>
              <a:ext cx="43920" cy="3459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140680" y="5908320"/>
              <a:ext cx="45720" cy="3682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231040" y="5875200"/>
              <a:ext cx="44280" cy="401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319960" y="5864040"/>
              <a:ext cx="44280" cy="41256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408880" y="5841720"/>
              <a:ext cx="45720" cy="434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499240" y="5786280"/>
              <a:ext cx="44280" cy="4903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588160" y="5719680"/>
              <a:ext cx="44280" cy="5569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677080" y="5551200"/>
              <a:ext cx="45720" cy="72540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767800" y="5194080"/>
              <a:ext cx="43920" cy="1082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856720" y="2817720"/>
              <a:ext cx="43920" cy="345888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945640" y="1981080"/>
              <a:ext cx="45360" cy="4295520"/>
            </a:xfrm>
            <a:prstGeom prst="rect">
              <a:avLst/>
            </a:prstGeom>
            <a:noFill/>
            <a:ln cap="sq"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98280" y="1411200"/>
              <a:ext cx="1440" cy="48654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941400" y="627660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41400" y="57416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41400" y="51940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41400" y="46591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941400" y="41115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41400" y="3576240"/>
              <a:ext cx="5652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941400" y="302868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941400" y="249372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41400" y="194616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41400" y="1411200"/>
              <a:ext cx="56520" cy="14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998280" y="6276600"/>
              <a:ext cx="8015040" cy="180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998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10872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11761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1266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355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444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535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1623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1712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1803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1892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1981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2071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2160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249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2340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4177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25066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2597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2685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2774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2865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29541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30430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133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3222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3112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402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4909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35798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3670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3759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3848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938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4027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116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206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4295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4384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4475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564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4653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743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4832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4921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5011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0893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1782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2689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53578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54468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5537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56260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57150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8053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894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5983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073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16248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2514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3421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64310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651960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66103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699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88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7852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9674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56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146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V="1">
              <a:off x="7235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324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415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504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5927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76834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76124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501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79405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80294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811836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20872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829764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8386560" y="6276600"/>
              <a:ext cx="144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847728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8566200" y="6276600"/>
              <a:ext cx="1080" cy="44640"/>
            </a:xfrm>
            <a:prstGeom prst="line">
              <a:avLst/>
            </a:prstGeom>
            <a:ln cap="sq"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 flipV="1">
            <a:off x="86504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 flipV="1">
            <a:off x="874080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82972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8918640" y="6246720"/>
            <a:ext cx="144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9009000" y="6246720"/>
            <a:ext cx="1800" cy="44640"/>
          </a:xfrm>
          <a:prstGeom prst="line">
            <a:avLst/>
          </a:prstGeom>
          <a:ln cap="sq"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82840" y="290520"/>
            <a:ext cx="684036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LO BUENO, LO MALO Y LO F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Verdana"/>
              </a:rPr>
              <a:t>ARGENTINA: DISTRIBUCION DE FRECUENCIA DE APORTANTES AL SIJyP POR CANTIDAD DE APORTES MENSUALES, 1994-2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70200" y="824040"/>
            <a:ext cx="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982960" y="1112760"/>
            <a:ext cx="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00760" y="61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00760" y="5610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0760" y="50641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0760" y="45291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760" y="39816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0760" y="34466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0760" y="28987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0760" y="236376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0760" y="181620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00760" y="128124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.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16200000">
            <a:off x="9892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rot="16200000">
            <a:off x="12574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rot="16200000">
            <a:off x="1525680" y="63122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16200000">
            <a:off x="1755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16200000">
            <a:off x="2025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16200000">
            <a:off x="22838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16200000">
            <a:off x="25520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282024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rot="16200000">
            <a:off x="30888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rot="16200000">
            <a:off x="33570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6200000">
            <a:off x="362520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16200000">
            <a:off x="3895200" y="633852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4161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4430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rot="16200000">
            <a:off x="4698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rot="16200000">
            <a:off x="49557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52239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rot="16200000">
            <a:off x="54921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16200000">
            <a:off x="57603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rot="16200000">
            <a:off x="602856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rot="16200000">
            <a:off x="62971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rot="16200000">
            <a:off x="6565320" y="63518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6833520" y="6349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71017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7370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rot="16200000">
            <a:off x="76273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rot="16200000">
            <a:off x="789552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7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rot="16200000">
            <a:off x="81640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rot="16200000">
            <a:off x="84322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rot="16200000">
            <a:off x="8700480" y="63482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8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878640" y="6593040"/>
            <a:ext cx="2632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Cantidad de meses</a:t>
            </a: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cc99"/>
                </a:solidFill>
                <a:latin typeface="Verdana"/>
              </a:rPr>
              <a:t>apor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rot="16200000">
            <a:off x="263880" y="372708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050840" y="3817800"/>
            <a:ext cx="1081080" cy="25196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050840" y="2449440"/>
            <a:ext cx="1665360" cy="765360"/>
          </a:xfrm>
          <a:prstGeom prst="wedgeRectCallout">
            <a:avLst>
              <a:gd name="adj1" fmla="val -16444"/>
              <a:gd name="adj2" fmla="val 120541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Lo malo...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1.9% &lt; 11% densidad (1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801880" y="3733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003560" y="2162160"/>
            <a:ext cx="1665360" cy="765360"/>
          </a:xfrm>
          <a:prstGeom prst="wedgeRectCallout">
            <a:avLst>
              <a:gd name="adj1" fmla="val -26550"/>
              <a:gd name="adj2" fmla="val 129254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feo..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63.7% &lt;  66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6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0" y="1730520"/>
            <a:ext cx="1768320" cy="680760"/>
          </a:xfrm>
          <a:prstGeom prst="wedgeRectCallout">
            <a:avLst>
              <a:gd name="adj1" fmla="val 52152"/>
              <a:gd name="adj2" fmla="val 15279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378480" y="1730520"/>
            <a:ext cx="17287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Lo buen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22.6% &gt; 89% den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(80 apor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50840" y="3530520"/>
            <a:ext cx="5781600" cy="27147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91560" y="2954160"/>
            <a:ext cx="1162080" cy="32482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72CE-7A55-4C77-9038-12D74325B9F8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400" y="2296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Uruguay: efectos de la densidad de contribuciones: período base 1996-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1" name=""/>
          <p:cNvGraphicFramePr/>
          <p:nvPr/>
        </p:nvGraphicFramePr>
        <p:xfrm>
          <a:off x="395280" y="1413000"/>
          <a:ext cx="8226360" cy="5267160"/>
        </p:xfrm>
        <a:graphic>
          <a:graphicData uri="http://schemas.openxmlformats.org/drawingml/2006/table">
            <a:tbl>
              <a:tblPr/>
              <a:tblGrid>
                <a:gridCol w="1644480"/>
                <a:gridCol w="1646280"/>
                <a:gridCol w="1644840"/>
                <a:gridCol w="1646280"/>
                <a:gridCol w="1644480"/>
              </a:tblGrid>
              <a:tr h="52020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porción de los trabajadores registrados en Historia Laboral que lograría registrar “x  o más” años de servicio a los 60 y 65 años de edad. Estimación basada en el período 1996-200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egoría de trabajad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ños de servic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) A los 60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2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) A los 65 años de e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To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,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. Hom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,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,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. Muje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,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. Privad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,6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. 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,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ente: Buchelli et al (2005) basado en información de la Unidad de Historia Laboral, ATYR-B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2" name=""/>
          <p:cNvSpPr/>
          <p:nvPr/>
        </p:nvSpPr>
        <p:spPr>
          <a:xfrm>
            <a:off x="7942320" y="3846600"/>
            <a:ext cx="79200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885080" y="57340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885080" y="2924280"/>
            <a:ext cx="792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4797360"/>
            <a:ext cx="792000" cy="289080"/>
          </a:xfrm>
          <a:prstGeom prst="ellipse">
            <a:avLst/>
          </a:prstGeom>
          <a:noFill/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6394-26EB-43E3-A138-A59959107A7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4098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ntributiva (compulsiv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No contributiva (prueba de medi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Horizontal / vert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De acceso (salu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Legal / estadís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1B31-8E14-4BF5-860A-F680133966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s-CR" sz="4000" spc="-1" strike="noStrike">
                <a:solidFill>
                  <a:srgbClr val="000000"/>
                </a:solidFill>
                <a:latin typeface="Times New Roman"/>
              </a:rPr>
              <a:t>Diferentes conceptos de cobertura requieren diferentes indicad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418840"/>
            <a:ext cx="777240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contributiva (vinculación laboral / financiamiento)  ¿Quién pag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de acceso a prestaciones: salud, p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Cobertura no contribu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6000" y="5516640"/>
            <a:ext cx="712800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imes New Roman"/>
              </a:rPr>
              <a:t>Cobertura en el Convenio 102 de OIT, Norma Mínima de Seguridad Social: sistemas universales versus sistemas bismarcki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54E-AE11-4A00-9CF5-2F6608C2AD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4400" spc="-1" strike="noStrike">
                <a:solidFill>
                  <a:srgbClr val="000000"/>
                </a:solidFill>
                <a:latin typeface="Times New Roman"/>
              </a:rPr>
              <a:t>Cobertura horizontal / vert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spcAft>
                <a:spcPts val="2401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Horizont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 población proteg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3333cc"/>
                </a:solidFill>
                <a:latin typeface="Times New Roman"/>
              </a:rPr>
              <a:t>Vertical</a:t>
            </a:r>
            <a:r>
              <a:rPr b="0" lang="es-CR" sz="3200" spc="-1" strike="noStrike">
                <a:solidFill>
                  <a:srgbClr val="000000"/>
                </a:solidFill>
                <a:latin typeface="Times New Roman"/>
              </a:rPr>
              <a:t>: nivel de las pres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Salud: contenido del conjunto de prestaciones en sal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800" spc="-1" strike="noStrike">
                <a:solidFill>
                  <a:srgbClr val="000000"/>
                </a:solidFill>
                <a:latin typeface="Times New Roman"/>
              </a:rPr>
              <a:t>Pensiones: tasa de reemplazo o sustit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6B4D-1B9C-4AB7-9DD6-6FF6A2F06C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00"/>
                </a:solidFill>
                <a:latin typeface="Times New Roman"/>
              </a:rPr>
              <a:t>Medición de la cobertura contributiva (con vinculación labora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3357360"/>
            <a:ext cx="4032000" cy="2385720"/>
          </a:xfrm>
          <a:prstGeom prst="rect">
            <a:avLst/>
          </a:prstGeom>
          <a:solidFill>
            <a:srgbClr val="ffcd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En relaci</a:t>
            </a: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ón con la P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 relación con la PEA ocupada no asalari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62560" y="2852640"/>
            <a:ext cx="504720" cy="3384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2843280"/>
            <a:ext cx="320364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ctor institu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Rama de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Categoría ocup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Tamaño de establec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reza / ingr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Ámbito geográfic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Formal / infor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Poblaciones margin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Sex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7840" indent="-177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3333cc"/>
                </a:solidFill>
                <a:latin typeface="Times New Roman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81600" y="41562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2852640"/>
            <a:ext cx="44640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Indicadores centr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DEA4-BEE0-4EAA-ABFC-402C244018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50:11Z</dcterms:created>
  <dc:creator>Fabio M. Bertranou</dc:creator>
  <dc:description/>
  <cp:keywords/>
  <dc:language>en-US</dc:language>
  <cp:lastModifiedBy>ILO</cp:lastModifiedBy>
  <cp:lastPrinted>2003-08-16T21:20:24Z</cp:lastPrinted>
  <dcterms:modified xsi:type="dcterms:W3CDTF">2009-09-24T16:14:30Z</dcterms:modified>
  <cp:revision>330</cp:revision>
  <dc:subject/>
  <dc:title>Cobertura proteccion social en AL</dc:title>
</cp:coreProperties>
</file>