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50000" cy="37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3992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20680" y="93992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6AF243-8A20-4495-B08A-98D84BA9C981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20680" y="93992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15224F0-BCA9-4717-ACD1-A18CD1A12E91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0" y="93992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884160" y="7588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06480" y="4707000"/>
            <a:ext cx="4914720" cy="449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20680" y="93992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4B3FA20-F019-412C-8958-B8225C4B898A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0" y="93992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4000-D620-43AA-8353-CFFB144CA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8F87-44A5-43D2-9DF0-8D9AB1E0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0F5-434D-4741-86A2-13427F1B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4DC3-2A5B-4351-B4D9-FDE16D530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FA02-C679-4B87-89BE-834054EB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9C09-F68A-44DC-8589-0255EAC2E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9772-6347-4BCB-B1E9-355683753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E2AE-58CC-4D2E-B50F-B3D4164E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3CB-B61B-4A0C-A6E8-C91DFA13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85AE-D9BC-410D-966E-A1C631CA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DDF1-D585-4407-8F2F-98406440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778B-D339-421C-B763-4E1589E3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AF06F-6C71-461D-B5E5-4795B5D04EE1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8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Fuentes de 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tizantes en relaci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con la PEA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0" y="1981080"/>
          <a:ext cx="8763120" cy="371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76312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222200" y="57913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4BC0-BCE7-42EE-A9EF-3E8166296A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125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tizantes en relaci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con la PEA ocupada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22200" y="57913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2209680"/>
          <a:ext cx="8458200" cy="36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09680"/>
                    <a:ext cx="845820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FAE6-1CB7-471F-9DAA-D801B27E72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125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tizantes en relaci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a la PEA ocupada asalariada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22200" y="57913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380880" y="2389320"/>
          <a:ext cx="8077320" cy="342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89320"/>
                    <a:ext cx="8077320" cy="34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45D5-7E18-41D3-84C8-D242DEEA46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7779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574640"/>
            <a:ext cx="720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844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57520" y="3876840"/>
            <a:ext cx="36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8600" y="592200"/>
          <a:ext cx="8640720" cy="6265800"/>
        </p:xfrm>
        <a:graphic>
          <a:graphicData uri="http://schemas.openxmlformats.org/drawingml/2006/table">
            <a:tbl>
              <a:tblPr/>
              <a:tblGrid>
                <a:gridCol w="2511360"/>
                <a:gridCol w="1298520"/>
                <a:gridCol w="1230480"/>
                <a:gridCol w="1184400"/>
                <a:gridCol w="1209600"/>
                <a:gridCol w="120636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7430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EVISIO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nti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ntil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5/Q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ul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(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(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(1999/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8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3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a Ric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 (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 (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aragua (2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ama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. Dominican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ezuel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ente: Elaboración basada en Rofman (2005), Rofman y Luchetti (2005) y otras fuent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371-B835-4598-AC1E-941DB15BE9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3068640"/>
            <a:ext cx="671976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Buena aproximación de la extensión pero ciertamente insuficient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F48-5BE9-48CB-8975-C4A8106AFF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Cobertura Previsional (pensiones) en Chile: Población 65 años y má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1371600"/>
          <a:ext cx="72388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72388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590920" y="182880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43200" y="1676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75.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79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048120"/>
            <a:ext cx="2057400" cy="3035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ber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ntributivo disminuye (67.1 a 6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no contrib. aumenta (8.3 a 14.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5495-9B1A-4CDA-88EC-C84F65B51D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9866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Lationamérica: cobertura de pensiones en los adultos may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1400" y="610704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2090880"/>
          <a:ext cx="8839080" cy="376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90880"/>
                    <a:ext cx="8839080" cy="37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6334-6BFE-4F3C-A444-D3BD6FF87BE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Bras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828800"/>
          <a:ext cx="7772400" cy="40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77240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C62A-8C02-4EFD-BF7E-A6BC070261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Bras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04920" y="2209680"/>
          <a:ext cx="7213680" cy="36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2209680"/>
                    <a:ext cx="721368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FD2-5275-487E-AB1B-9878A17DB6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Bolivia y Chile: componentes contributivos y no contribu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914400" y="2284560"/>
          <a:ext cx="7467480" cy="381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4560"/>
                    <a:ext cx="7467480" cy="38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7C47-F055-47F4-918A-B6785EA56D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rincipales fuentes de 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Registros administrativos institu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ncuestas de hog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ncuestas de ingresos y ga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ncuesta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4360" y="5300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Necesidad de combinar datos de diversas fuentes para la construcción de indicadores.  Precaución al combinar fuentes d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0EA-CAFA-46DC-8E36-A8A55D50975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Costa Rica y Ecuador: componentes contributivos y no contribu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914400" y="2284560"/>
          <a:ext cx="7467480" cy="381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4560"/>
                    <a:ext cx="7467480" cy="38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9550-96D9-4C5D-9532-8CE1DC75370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por quintiles de ingreso: Bolivia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Año 200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8680" y="5105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3076560"/>
          <a:ext cx="8686800" cy="150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76560"/>
                    <a:ext cx="868680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668-ED0E-4BF9-AD18-505F5777AC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por quintiles de ingreso: Chile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Año 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8680" y="5105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04920" y="3076560"/>
          <a:ext cx="8686800" cy="150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76560"/>
                    <a:ext cx="868680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CCE8-91A3-4968-AC8E-8453BCF4B8A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anamá (200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398600"/>
            <a:ext cx="891540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9F66-47A7-4A29-8875-143764EA2B4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anamá (200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52360" y="1844640"/>
            <a:ext cx="84963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3D58-60A1-490F-A534-E595AC1D8C1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anamá (199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2280" y="1873080"/>
            <a:ext cx="8915400" cy="494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BDD2-A4AF-4DC4-A5CA-E7ED3590AD6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Guatemala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95280" y="1623960"/>
          <a:ext cx="7921800" cy="48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3960"/>
                    <a:ext cx="792180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14CC-1A2A-4DD5-AEBF-C6B655CD282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Guatemala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979640" y="1562040"/>
          <a:ext cx="4673520" cy="51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62040"/>
                    <a:ext cx="467352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CD43-7084-40A3-A61C-919FC603164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1935000"/>
            <a:ext cx="4581360" cy="425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4500720" y="1916280"/>
          <a:ext cx="4643280" cy="432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1916280"/>
                    <a:ext cx="464328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Guatemala 199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960" y="6235560"/>
            <a:ext cx="660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Fuente: (PNUD. Durán, Fabio). Encuesta Nacional de Ingresos y Gastos Familiares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3D62-02BA-4CD3-9907-CE77E759DF5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erú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971640" y="1952640"/>
            <a:ext cx="7272360" cy="38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19C7-8C06-40B2-A411-E4F5C0AFC5B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Registros administrativos: lo míni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Sector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Categoría ocup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Rama de activ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Ubicación geográfica (de la empresa / de la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Tamaño de establecimiento (número de emple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A878-8BBF-434D-A7C4-9DFA49A458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erú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66560" y="2174760"/>
            <a:ext cx="8209080" cy="4062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408960" y="6261120"/>
            <a:ext cx="75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Fuente: OIT. Durán, Fabio.  Estudio financiero-actuarial y de la gestión de EsSalud,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483F-B3E7-4708-8435-D152B4D80F4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56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Costa Rica: 1993-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32000" y="1222200"/>
            <a:ext cx="6048360" cy="553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D4D1-B02B-4120-BBAD-CF80FE72D37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Ecuador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22360" y="1440000"/>
            <a:ext cx="6605640" cy="54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A58A-57F5-45C6-94EF-9A0A4FF127F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Ecuador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8000" y="2673360"/>
            <a:ext cx="9001080" cy="31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038D-B0A7-414B-B290-A1C18915722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39640" y="1844640"/>
            <a:ext cx="7705800" cy="48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les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 productiva: sector primario, secundario, terciari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alidades de inserción productiva: categoría ocupacional y sector institucional (público / priv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año relativo de la economía formal versus economía inf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ralidad / disp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dad contribut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structurales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 program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o jurídico (compulsión e inspec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en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cias en la gestión –percepción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 previsi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Algunos factores explicativos de la cobertura (resum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0041-D153-4A8A-A0A5-38136D57672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6212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Algunos tópicos relacionados con cober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6093-14F6-41EF-A57A-4ACEB9ABC53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6920" y="878040"/>
            <a:ext cx="8137800" cy="55576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58120" y="6451560"/>
            <a:ext cx="42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Durán, Fabio. </a:t>
            </a:r>
            <a:r>
              <a:rPr b="0" i="1" lang="es-PE" sz="1400" spc="-1" strike="noStrike">
                <a:solidFill>
                  <a:srgbClr val="000000"/>
                </a:solidFill>
                <a:latin typeface="Times New Roman"/>
              </a:rPr>
              <a:t>Encuestas de hogares, SIAL/OIT Panamá.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B4CA-20BC-4C89-81DA-D8E7B3EA75F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Times New Roman"/>
              </a:rPr>
              <a:t>Diferentes densidades de cotización por sexo, generarán diferentes niveles de pensión, especialmente en cuentas individuales (inequidad de gén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34920" y="2163600"/>
            <a:ext cx="5111640" cy="4087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852720" y="2182680"/>
            <a:ext cx="5232600" cy="40467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95280" y="321300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CF2-CF7F-42DE-9783-B1AD574ED04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El aumento de la longevidad es un reto para la cobertura en los sistemas de pen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89080" y="2208240"/>
            <a:ext cx="6983280" cy="48211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166760" y="1508040"/>
            <a:ext cx="7508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Esperanza de vida a los 65 años y variación, según sex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aíses seleccionados,  1960-205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15B3-74D9-4ADB-9D88-29ECAD4FA77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848360" cy="5462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755640" y="6375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arreras salariales en ramas económicas seleccionadas. Costa Rica (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6680" y="6538320"/>
            <a:ext cx="28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Fuente: CCSS, Dirección Actuarial, 2006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B44D-B362-4775-90FD-B73E510DC2E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imes New Roman"/>
              </a:rPr>
              <a:t>Las preguntas para estimar cobertura en las encuestas de hogares en 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1763640"/>
            <a:ext cx="2592360" cy="1160640"/>
          </a:xfrm>
          <a:prstGeom prst="rect">
            <a:avLst/>
          </a:prstGeom>
          <a:solidFill>
            <a:srgbClr val="9fc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Uruguay: ¿En este trabajo tiene derecho a jubilació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3068640"/>
            <a:ext cx="2606760" cy="1584360"/>
          </a:xfrm>
          <a:prstGeom prst="rect">
            <a:avLst/>
          </a:prstGeom>
          <a:solidFill>
            <a:srgbClr val="ff9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Perú: ¿Ud. actualmente está afiliado a : ESSALUD ( antes IPS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Times New Roman"/>
              </a:rPr>
              <a:t>-Es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Times New Roman"/>
              </a:rPr>
              <a:t>-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4724280"/>
            <a:ext cx="2592360" cy="1909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Panamá:  Categoría de aseguramien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Cotizante y jubilado a la seguridad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Benefici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No cotizante a la seguridad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32000" y="1773360"/>
            <a:ext cx="2606760" cy="266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Ecuador: Está afiliado o cubierto por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IESS Seguro Campes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ingu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Medicina Preven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IESS Seguro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ISSFA, ISSP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eguro de salud priv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25960" y="1773360"/>
            <a:ext cx="2967120" cy="4813200"/>
          </a:xfrm>
          <a:prstGeom prst="rect">
            <a:avLst/>
          </a:prstGeom>
          <a:solidFill>
            <a:srgbClr val="6d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500" spc="-1" strike="noStrike">
                <a:solidFill>
                  <a:srgbClr val="000000"/>
                </a:solidFill>
                <a:latin typeface="Times New Roman"/>
              </a:rPr>
              <a:t>Costa Rica: ¿qué tipo de seguro social tiene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   Asalari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2   Mediante Conven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3   Cuenta Prop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4   Por el Est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5   Familiar de Asegurado Direc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6   Régimen No Contributivo Monto Bás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7   Pensionado Régimen IVM de la CC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8   Familiar de Pension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9   Otras Form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0  No Asegur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1  Régimen No Contributivo de Gracia o Guer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2  Régimen Magisterio, Poder Judicial, Haciend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99  Ignorad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5080" y="4581360"/>
            <a:ext cx="2519280" cy="2016360"/>
          </a:xfrm>
          <a:prstGeom prst="rect">
            <a:avLst/>
          </a:prstGeom>
          <a:solidFill>
            <a:srgbClr val="ffc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Argentina: ¿para este trabajo tiene descuento jubilatori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1EF0-B0A5-4614-87A7-ED94BC06E2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056360" cy="4703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7164360" cy="4776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372360" y="620640"/>
            <a:ext cx="2447640" cy="5198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gímenes de pensiones contributiv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cumulación de “derechos” previsionales a lo largo del ciclo laboral para hombres y 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rgentina, Encuesta de Condiciones de Vida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E45D-97BE-4E41-BC28-832807C82F8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5796000" cy="38642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43280" y="765000"/>
            <a:ext cx="5904000" cy="39373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427640" y="3789360"/>
            <a:ext cx="6192720" cy="41274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324000" y="765000"/>
            <a:ext cx="4103640" cy="2712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gímenes de pensiones contributiv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ños aportados al sistema previsional para hombres y mujeres a la edad legal de ret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rgentina, Encuesta de Condiciones de Vida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385-D208-411F-9232-ACD95371278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82840" y="4467240"/>
            <a:ext cx="1152360" cy="2448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114480" y="361800"/>
            <a:ext cx="9032760" cy="6595920"/>
            <a:chOff x="114480" y="361800"/>
            <a:chExt cx="9032760" cy="6595920"/>
          </a:xfrm>
        </p:grpSpPr>
        <p:sp>
          <p:nvSpPr>
            <p:cNvPr id="183" name=""/>
            <p:cNvSpPr/>
            <p:nvPr/>
          </p:nvSpPr>
          <p:spPr>
            <a:xfrm>
              <a:off x="114480" y="361800"/>
              <a:ext cx="9032760" cy="65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98280" y="1411200"/>
              <a:ext cx="8015040" cy="48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98280" y="5741640"/>
              <a:ext cx="80150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98280" y="519408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98280" y="465912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98280" y="411156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8280" y="3576240"/>
              <a:ext cx="80150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98280" y="302868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98280" y="249372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998280" y="194616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8280" y="141120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998280" y="1411200"/>
              <a:ext cx="8015040" cy="4865400"/>
            </a:xfrm>
            <a:prstGeom prst="rect">
              <a:avLst/>
            </a:prstGeom>
            <a:noFill/>
            <a:ln cap="sq"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020600" y="4190760"/>
              <a:ext cx="44280" cy="20858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09520" y="4501800"/>
              <a:ext cx="44280" cy="177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98440" y="4736880"/>
              <a:ext cx="44280" cy="1539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288800" y="4993920"/>
              <a:ext cx="44280" cy="12826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377720" y="5205240"/>
              <a:ext cx="44280" cy="10713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466640" y="5249520"/>
              <a:ext cx="44280" cy="10270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57360" y="5406840"/>
              <a:ext cx="43920" cy="8697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646280" y="5451120"/>
              <a:ext cx="43920" cy="825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35200" y="5584680"/>
              <a:ext cx="43920" cy="691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825560" y="5573520"/>
              <a:ext cx="43920" cy="7030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14480" y="5562360"/>
              <a:ext cx="43920" cy="714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03400" y="5518080"/>
              <a:ext cx="43920" cy="7585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93760" y="5562360"/>
              <a:ext cx="44280" cy="714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82680" y="5640120"/>
              <a:ext cx="44280" cy="636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71600" y="5640120"/>
              <a:ext cx="45720" cy="636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61960" y="5663880"/>
              <a:ext cx="33120" cy="612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40080" y="5719680"/>
              <a:ext cx="43920" cy="556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528640" y="5719680"/>
              <a:ext cx="44280" cy="556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619360" y="5741640"/>
              <a:ext cx="43920" cy="534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708280" y="5763960"/>
              <a:ext cx="43920" cy="5126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797200" y="5752800"/>
              <a:ext cx="43920" cy="523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887560" y="5741640"/>
              <a:ext cx="44280" cy="534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76480" y="5808240"/>
              <a:ext cx="43920" cy="4683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65400" y="5775120"/>
              <a:ext cx="43920" cy="501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55760" y="5786280"/>
              <a:ext cx="44280" cy="4903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44680" y="5819400"/>
              <a:ext cx="44280" cy="4572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333600" y="5819400"/>
              <a:ext cx="44280" cy="4572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424320" y="5852880"/>
              <a:ext cx="43920" cy="423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12880" y="5808240"/>
              <a:ext cx="44280" cy="4683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1800" y="5841720"/>
              <a:ext cx="4428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92520" y="5852880"/>
              <a:ext cx="43920" cy="423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81440" y="5886360"/>
              <a:ext cx="4392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70360" y="5875200"/>
              <a:ext cx="439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960720" y="5841720"/>
              <a:ext cx="439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49640" y="5841720"/>
              <a:ext cx="439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38560" y="5841720"/>
              <a:ext cx="457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28920" y="5852880"/>
              <a:ext cx="44280" cy="423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17840" y="5830560"/>
              <a:ext cx="44280" cy="4460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406760" y="5864040"/>
              <a:ext cx="45720" cy="4125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97480" y="5908320"/>
              <a:ext cx="439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86040" y="5952960"/>
              <a:ext cx="44280" cy="3236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74960" y="5875200"/>
              <a:ext cx="457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765680" y="5941800"/>
              <a:ext cx="43920" cy="33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54600" y="5897160"/>
              <a:ext cx="439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943520" y="5886360"/>
              <a:ext cx="4572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033880" y="5897160"/>
              <a:ext cx="331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111640" y="5919480"/>
              <a:ext cx="4428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200560" y="5875200"/>
              <a:ext cx="439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90920" y="5897160"/>
              <a:ext cx="4428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79840" y="5908320"/>
              <a:ext cx="4428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68760" y="5886360"/>
              <a:ext cx="4428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55948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648400" y="5919480"/>
              <a:ext cx="439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36960" y="5841720"/>
              <a:ext cx="457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2768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916600" y="5919480"/>
              <a:ext cx="439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05520" y="5908320"/>
              <a:ext cx="457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95880" y="5908320"/>
              <a:ext cx="4428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184800" y="5919480"/>
              <a:ext cx="4428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73720" y="5919480"/>
              <a:ext cx="457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64080" y="5919480"/>
              <a:ext cx="4428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453000" y="5941800"/>
              <a:ext cx="44280" cy="33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41920" y="5886360"/>
              <a:ext cx="4572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3264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21560" y="5897160"/>
              <a:ext cx="439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10120" y="5919480"/>
              <a:ext cx="457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0084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89760" y="5875200"/>
              <a:ext cx="439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78680" y="5908320"/>
              <a:ext cx="457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169040" y="5930640"/>
              <a:ext cx="4428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257960" y="5919480"/>
              <a:ext cx="439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46880" y="5897160"/>
              <a:ext cx="457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37240" y="5797440"/>
              <a:ext cx="44280" cy="4791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526160" y="5841720"/>
              <a:ext cx="4428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615080" y="5941800"/>
              <a:ext cx="45720" cy="33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705800" y="5908320"/>
              <a:ext cx="3276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78356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872480" y="5930640"/>
              <a:ext cx="4536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6284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05176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40680" y="5908320"/>
              <a:ext cx="457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231040" y="5875200"/>
              <a:ext cx="4428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19960" y="5864040"/>
              <a:ext cx="44280" cy="4125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408880" y="5841720"/>
              <a:ext cx="457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499240" y="5786280"/>
              <a:ext cx="44280" cy="4903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588160" y="5719680"/>
              <a:ext cx="44280" cy="556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677080" y="5551200"/>
              <a:ext cx="45720" cy="725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767800" y="5194080"/>
              <a:ext cx="43920" cy="10825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856720" y="2817720"/>
              <a:ext cx="43920" cy="3458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945640" y="1981080"/>
              <a:ext cx="45360" cy="42955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98280" y="1411200"/>
              <a:ext cx="1440" cy="48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41400" y="6276600"/>
              <a:ext cx="5652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41400" y="5741640"/>
              <a:ext cx="5652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941400" y="519408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941400" y="465912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941400" y="411156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941400" y="3576240"/>
              <a:ext cx="5652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941400" y="302868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41400" y="249372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41400" y="194616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941400" y="141120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998280" y="6276600"/>
              <a:ext cx="80150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9982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10872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11761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12668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13557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14446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1535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1623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17128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1803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18921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19810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0714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1603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22492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2340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24177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25066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2597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685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7748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2865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29541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0430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1338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32223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3112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402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34909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5798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3670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37591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848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9384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40273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4116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4206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2955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43844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4475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45640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4653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7433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4832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921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5011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893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178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5268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3578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54468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5537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56260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5715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8053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5894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5983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073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1624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62514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3421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431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5196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6103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6992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6788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8785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9674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70563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71467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72356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7324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415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7504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5927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76834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7612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850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79405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80294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81183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82087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976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386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8477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8566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 flipV="1">
            <a:off x="865044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874080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882972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891864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9009000" y="6246720"/>
            <a:ext cx="180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482840" y="290520"/>
            <a:ext cx="6840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LO BUENO, LO MALO Y LO F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ARGENTINA: DISTRIBUCION DE FRECUENCIA DE APORTANTES AL SIJyP POR CANTIDAD DE APORTES MENSUALES, 1994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770200" y="82404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982960" y="111276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00760" y="61466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0760" y="56102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0760" y="50641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00760" y="452916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00760" y="398160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0760" y="34466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00760" y="28987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760" y="236376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00760" y="181620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0760" y="12812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rot="16200000">
            <a:off x="989280" y="6312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1257480" y="6312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rot="16200000">
            <a:off x="1525680" y="6312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rot="16200000">
            <a:off x="17553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rot="16200000">
            <a:off x="20250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228384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rot="16200000">
            <a:off x="255204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rot="16200000">
            <a:off x="282024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rot="16200000">
            <a:off x="30888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6200000">
            <a:off x="33570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6200000">
            <a:off x="36252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rot="16200000">
            <a:off x="3895200" y="63385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41619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44301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46983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rot="16200000">
            <a:off x="49557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16200000">
            <a:off x="52239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rot="16200000">
            <a:off x="54921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rot="16200000">
            <a:off x="57603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60285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6200000">
            <a:off x="629712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rot="16200000">
            <a:off x="656532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rot="16200000">
            <a:off x="6833520" y="6349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rot="16200000">
            <a:off x="710172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16200000">
            <a:off x="73702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762732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rot="16200000">
            <a:off x="789552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81640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rot="16200000">
            <a:off x="84322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87004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78640" y="6593040"/>
            <a:ext cx="263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Verdana"/>
              </a:rPr>
              <a:t>Cantidad de meses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cc99"/>
                </a:solidFill>
                <a:latin typeface="Verdana"/>
              </a:rPr>
              <a:t>apor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rot="16200000">
            <a:off x="263880" y="372708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050840" y="3817800"/>
            <a:ext cx="1081080" cy="25196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050840" y="2449440"/>
            <a:ext cx="1665360" cy="765360"/>
          </a:xfrm>
          <a:prstGeom prst="wedgeRectCallout">
            <a:avLst>
              <a:gd name="adj1" fmla="val -16444"/>
              <a:gd name="adj2" fmla="val 12054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o malo..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1.9% &lt; 11% densidad (10 apor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801880" y="373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003560" y="2162160"/>
            <a:ext cx="1665360" cy="765360"/>
          </a:xfrm>
          <a:prstGeom prst="wedgeRectCallout">
            <a:avLst>
              <a:gd name="adj1" fmla="val -26550"/>
              <a:gd name="adj2" fmla="val 12925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Lo feo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63.7% &lt;  66% den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(60 apor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07200" y="1730520"/>
            <a:ext cx="1768320" cy="680760"/>
          </a:xfrm>
          <a:prstGeom prst="wedgeRectCallout">
            <a:avLst>
              <a:gd name="adj1" fmla="val 52152"/>
              <a:gd name="adj2" fmla="val 15279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378480" y="1730520"/>
            <a:ext cx="17287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Lo buen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22.6% &gt; 89% den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(80 apor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050840" y="3530520"/>
            <a:ext cx="5781600" cy="271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891560" y="2954160"/>
            <a:ext cx="1162080" cy="3248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6CF-519D-49F8-84D1-48B24A29531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5400" y="2296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Uruguay: efectos de la densidad de contribuciones: período base 1996-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395280" y="1413000"/>
          <a:ext cx="8226360" cy="5267160"/>
        </p:xfrm>
        <a:graphic>
          <a:graphicData uri="http://schemas.openxmlformats.org/drawingml/2006/table">
            <a:tbl>
              <a:tblPr/>
              <a:tblGrid>
                <a:gridCol w="1644480"/>
                <a:gridCol w="1646280"/>
                <a:gridCol w="1644840"/>
                <a:gridCol w="1646280"/>
                <a:gridCol w="1644480"/>
              </a:tblGrid>
              <a:tr h="5202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rción de los trabajadores registrados en Historia Laboral que lograría registrar “x  o más” años de servicio a los 60 y 65 años de edad. Estimación basada en el período 1996-200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ía de trabaj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ños de servi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) A los 60 años de 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To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. Hom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. Muj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 Priv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. Públ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 A los 65 años de 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To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. Hom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. Muj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 Priv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. Públ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Buchelli et al (2005) basado en información de la Unidad de Historia Laboral, ATYR-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43" name=""/>
          <p:cNvSpPr/>
          <p:nvPr/>
        </p:nvSpPr>
        <p:spPr>
          <a:xfrm>
            <a:off x="7942320" y="3846600"/>
            <a:ext cx="79200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885080" y="5734080"/>
            <a:ext cx="79236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885080" y="2924280"/>
            <a:ext cx="79236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72000" y="4797360"/>
            <a:ext cx="792000" cy="28908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3082-D1E1-4B74-A2C8-1B638ED5F14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1773360"/>
            <a:ext cx="2952720" cy="302400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Chile: ¿A qué sistema previsional de salud pertenece us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0 S. público Grupo A (indige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1 S. público Grup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2 S. público Grup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3 S. público Grup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4 S. público No sabe el gru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5 FF AA y del O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6 ISA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7 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341280"/>
            <a:ext cx="81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Las preguntas para estimar cobertura en las encuestas de hogares en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5375160"/>
            <a:ext cx="2952720" cy="1366920"/>
          </a:xfrm>
          <a:prstGeom prst="rect">
            <a:avLst/>
          </a:prstGeom>
          <a:solidFill>
            <a:srgbClr val="ffc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Brasi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Contribui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ão contribui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Sem decla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1773360"/>
            <a:ext cx="2520720" cy="4898880"/>
          </a:xfrm>
          <a:prstGeom prst="rect">
            <a:avLst/>
          </a:prstGeom>
          <a:solidFill>
            <a:srgbClr val="97ff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Méxic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En el trabajo principal de la semana pasada, cuáles de las siguientes prestaciones le dan..</a:t>
            </a: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IM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En el trabajo principal de la semana pasada, cuáles de las siguientes prestaciones le dan..</a:t>
            </a: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ISS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o ap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o decl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Si</a:t>
            </a: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333600" y="1773360"/>
            <a:ext cx="2967120" cy="50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Colombia: esta afiliado al régimen contributivo o subsidiad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Contribu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 ap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 s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ubsidi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¿Quién paga mensualmente por la afiliació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Le descuentan de la nómina o sal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No ap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Paga la empresa donde traba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Es beneficiario de algún famili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Paga la empresa empresa donde traba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Paga la totalidad de su afil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No sabe no inf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6E8-EB77-4C3E-A9EA-920DA21628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jemplo Costa Rica: Encuesta Hogares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4980240" cy="58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613E-3184-426C-BCB2-6FA0251A817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Datos de cober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35520" y="571320"/>
            <a:ext cx="832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Latinoamérica. % de ocupados con protección social contributiva basada en el empleo (2005)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1135080"/>
            <a:ext cx="8748720" cy="5499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96280" y="6363360"/>
            <a:ext cx="697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Fuente: Durán Valverde, Fabio.  Elaboración basada en encuestas de hogares SIAL/OIT, 200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629-2E22-4748-B1A8-B01ADCC4126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1720" y="663480"/>
            <a:ext cx="5732280" cy="5823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112400" y="6395760"/>
            <a:ext cx="454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Fuente: Durán Valverde, Fabio.  Elaboración basada en encuesta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de hogares SIAL/OIT, 2005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56600" y="315000"/>
            <a:ext cx="775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Latinoamérica (países seleccionados): % de ocupados cotizantes a seguridad social en salud (2005).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CCA-0C69-4CCC-951A-25B5473302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8:50:11Z</dcterms:created>
  <dc:creator>Fabio M. Bertranou</dc:creator>
  <dc:description/>
  <cp:keywords/>
  <dc:language>en-US</dc:language>
  <cp:lastModifiedBy>ILO</cp:lastModifiedBy>
  <cp:lastPrinted>2003-08-16T21:20:24Z</cp:lastPrinted>
  <dcterms:modified xsi:type="dcterms:W3CDTF">2009-09-24T16:24:22Z</dcterms:modified>
  <cp:revision>331</cp:revision>
  <dc:subject/>
  <dc:title>Cobertura proteccion social en AL</dc:title>
</cp:coreProperties>
</file>