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500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9F34B7-1D1B-4BA2-9D69-5C6DF38E605A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FEC793-634D-4A2D-B39D-F4B3860CDC60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84160" y="7588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14720" cy="44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0CFF86-D73F-4F25-B04A-A7C3F1FCB559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D2C-A137-4FD9-B42E-F9E0EA2D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A1A-433F-4E5A-A6FA-249E7EF4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A22-1FE3-4DAF-B396-5AD9CCAF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CE6-E83C-46B8-BAF0-290354C1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FB1-D24C-4D9F-A6BA-03A30A4C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AE0-689E-4329-B04B-3CFF7987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1C8-5CF2-4BF0-AA0A-BFAC6600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CA9-8C27-40BE-8202-602CA0F6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A06-325F-40D3-B370-AA80B416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057-B1DE-421D-92E1-2FEFDA78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A7C-5400-4209-8C74-F3983BDE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2E3-9A59-4D75-9C0F-7A3FAE8C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298B-2485-4897-8221-19362F88D072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1981080"/>
          <a:ext cx="8763120" cy="37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76312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171-1846-45EE-8633-48E4155B3B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 ocup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209680"/>
          <a:ext cx="845820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45820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279-F20A-4666-8622-6895093AC3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a la PEA ocupada asalari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389320"/>
          <a:ext cx="807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89320"/>
                    <a:ext cx="807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C44-484B-46BB-956F-0401640346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7779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574640"/>
            <a:ext cx="720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57520" y="3876840"/>
            <a:ext cx="36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592200"/>
          <a:ext cx="8640720" cy="6265800"/>
        </p:xfrm>
        <a:graphic>
          <a:graphicData uri="http://schemas.openxmlformats.org/drawingml/2006/table">
            <a:tbl>
              <a:tblPr/>
              <a:tblGrid>
                <a:gridCol w="2511360"/>
                <a:gridCol w="1298520"/>
                <a:gridCol w="1230480"/>
                <a:gridCol w="1184400"/>
                <a:gridCol w="1209600"/>
                <a:gridCol w="1206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EVIS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5/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ul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9/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 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ama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. Dominica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: Elaboración basada en Rofman (2005), Rofman y Luchetti (2005) y otras fuen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3CA-D670-41E5-9310-49E57AE9C1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3068640"/>
            <a:ext cx="67197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Buena aproximación de la extensión pero ciertamente insuficient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FEE-EC2A-496D-92E3-41B96D2805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Cobertura Previsional (pensiones) en Chile: Población 65 años y m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371600"/>
          <a:ext cx="72388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72388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590920" y="182880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5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9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048120"/>
            <a:ext cx="2057400" cy="303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ber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ntributivo disminuye (67.1 a 6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o contrib. aumenta (8.3 a 14.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4B1-E777-4218-ACA6-DC8161E13A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86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tionamérica: cobertura de pensiones en los adultos may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1400" y="610704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2090880"/>
          <a:ext cx="8839080" cy="37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0880"/>
                    <a:ext cx="8839080" cy="37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512-B718-4EE1-93F2-352E7E4F1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828800"/>
          <a:ext cx="7772400" cy="40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F70-3810-4B4A-8847-7E00CBB29A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04920" y="2209680"/>
          <a:ext cx="721368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209680"/>
                    <a:ext cx="721368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DFA-528D-4261-9915-CE54D944C7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olivia y Chile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3EC-02CE-478B-86AB-7D9B72DF82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rincipales 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Registros administrativo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hog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ingresos y ga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Necesidad de combinar datos de diversas fuentes para la construcción de indicadores.  Precaución al combinar fuente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B9F-8366-4C52-B36A-E07BD819E6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Costa Rica y Ecuador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AB9-5D93-40A0-AA49-AB9CE0762C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Bolivi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04C-8A14-4020-9593-52B8DD02B2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Chile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526-F727-4EC2-AEC0-799CB4FEC9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398600"/>
            <a:ext cx="891540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982-7745-4454-B3E7-12DB7DA18A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2360" y="1844640"/>
            <a:ext cx="84963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C29-66D6-44D3-9795-E059917360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873080"/>
            <a:ext cx="8915400" cy="494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23A-A0F0-49AB-B2C0-14F7A4BE6E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623960"/>
          <a:ext cx="7921800" cy="48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3960"/>
                    <a:ext cx="79218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1DF-2D02-4B45-9B95-5F67E8E5BB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79640" y="1562040"/>
          <a:ext cx="46735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62040"/>
                    <a:ext cx="46735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B88-C98F-44C3-A0B4-51063DF0D0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35000"/>
            <a:ext cx="4581360" cy="425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00720" y="1916280"/>
          <a:ext cx="4643280" cy="432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916280"/>
                    <a:ext cx="4643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960" y="6235560"/>
            <a:ext cx="66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Fuente: (PNUD. Durán, Fabio). Encuesta Nacional de Ingresos y Gastos Familiares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19D-14A7-4767-98FA-5A695F9339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952640"/>
            <a:ext cx="727236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ABC-588F-417E-AAC7-5A7A67D64F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Registros administrativos: lo mí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ctor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Categorí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Rama de activ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Ubicación geográfica (de la empresa / de la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amaño de establecimiento (número de emple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28F-F829-42E9-8D2D-C9E0397441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6560" y="2174760"/>
            <a:ext cx="8209080" cy="4062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8960" y="6261120"/>
            <a:ext cx="75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Fuente: OIT. Durán, Fabio.  Estudio financiero-actuarial y de la gestión de EsSalud,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02F-F961-4460-A3AA-8D3704DDB8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6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Costa Rica: 1993-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32000" y="1222200"/>
            <a:ext cx="6048360" cy="55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C30-06DB-4413-BB24-8EE967502D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2360" y="1440000"/>
            <a:ext cx="660564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878-56C6-468C-B31A-04C9BA6DF0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8000" y="2673360"/>
            <a:ext cx="9001080" cy="31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E44-3523-496D-933A-CE2ED20F5E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1844640"/>
            <a:ext cx="770580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ductiva: sector primario, secundario, tercia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dades de inserción productiva: categoría ocupacional y sector institucional (público / priv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relativo de la economía formal versus economía in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idad / disp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contribu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gra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jurídico (compulsión e inspe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ias en la gestión –percepción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previ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Algunos factores explicativos de la cobertura (resum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7AD-F5F7-415E-A939-441906A253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lgunos tópicos relacionados con cober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B01-4D5A-4D8D-9DFD-5098E6C5D9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878040"/>
            <a:ext cx="8137800" cy="5557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58120" y="6451560"/>
            <a:ext cx="42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Durán, Fabio. </a:t>
            </a:r>
            <a:r>
              <a:rPr b="0" i="1" lang="es-PE" sz="1400" spc="-1" strike="noStrike">
                <a:solidFill>
                  <a:srgbClr val="000000"/>
                </a:solidFill>
                <a:latin typeface="Times New Roman"/>
              </a:rPr>
              <a:t>Encuestas de hogares, SIAL/OIT Panamá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EA8-4609-4B19-9E34-030509BBFF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Diferentes densidades de cotización por sexo, generarán diferentes niveles de pensión, especialmente en cuentas individuales (inequidad de gén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4920" y="2163600"/>
            <a:ext cx="5111640" cy="408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52720" y="2182680"/>
            <a:ext cx="5232600" cy="4046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5280" y="321300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266-D510-4994-88B7-2F45BFC358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El aumento de la longevidad es un reto para la cobertura en los sistemas de p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89080" y="2208240"/>
            <a:ext cx="6983280" cy="4821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66760" y="1508040"/>
            <a:ext cx="7508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Esperanza de vida a los 65 años y variación, según sex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aíses seleccionados,  1960-20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A8D-5BA7-4999-AAB7-C3FBE641E9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546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6375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arreras salariales en ramas económicas seleccionadas. Costa Rica (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6680" y="6538320"/>
            <a:ext cx="28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uente: CCSS, Dirección Actuarial, 2006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AAE-CBEB-4FCE-9981-D17FF8284D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763640"/>
            <a:ext cx="2592360" cy="1160640"/>
          </a:xfrm>
          <a:prstGeom prst="rect">
            <a:avLst/>
          </a:prstGeom>
          <a:solidFill>
            <a:srgbClr val="9fc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Uruguay: ¿En este trabajo tiene derecho a jubil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068640"/>
            <a:ext cx="2606760" cy="1584360"/>
          </a:xfrm>
          <a:prstGeom prst="rect">
            <a:avLst/>
          </a:prstGeom>
          <a:solidFill>
            <a:srgbClr val="ff9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erú: ¿Ud. actualmente está afiliado a : ESSALUD ( antes IPS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s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724280"/>
            <a:ext cx="2592360" cy="190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anamá:  Categoría de aseguramien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tizante y jubilado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No cotizante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1773360"/>
            <a:ext cx="2606760" cy="26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cuador: Está afiliado o cubierto p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Campes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ingu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Medicina Preven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SSFA, ISS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eguro de salud pr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25960" y="1773360"/>
            <a:ext cx="2967120" cy="4813200"/>
          </a:xfrm>
          <a:prstGeom prst="rect">
            <a:avLst/>
          </a:prstGeom>
          <a:solidFill>
            <a:srgbClr val="6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500" spc="-1" strike="noStrike">
                <a:solidFill>
                  <a:srgbClr val="000000"/>
                </a:solidFill>
                <a:latin typeface="Times New Roman"/>
              </a:rPr>
              <a:t>Costa Rica: ¿qué tipo de seguro social tien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   Asalari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2   Mediante Conven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3   Cuenta Prop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4   Por el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5   Familiar de Asegurado Direc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6   Régimen No Contributivo Monto Bás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7   Pensionado Régimen IVM de la CC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8   Familiar de Pension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   Otras Form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0  No Asegur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1  Régimen No Contributivo de Gracia o Guer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2  Régimen Magisterio, Poder Judicial, Hacien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9  Ignorad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5080" y="4581360"/>
            <a:ext cx="2519280" cy="201636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Argentina: ¿para este trabajo tiene descuento jubilator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C71-F117-4E56-B52D-2EDF95B651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056360" cy="4703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7164360" cy="477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372360" y="620640"/>
            <a:ext cx="2447640" cy="5198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cumulación de “derechos” previsionales a lo largo del ciclo laboral para hombres y 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BBE-F84F-4DD3-B8A2-9395D67F489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5796000" cy="3864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5904000" cy="3937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6192720" cy="4127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765000"/>
            <a:ext cx="4103640" cy="2712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ños aportados al sistema previsional para hombres y mujeres a la edad legal de ret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4C1-C90E-4478-9E77-8286008BA8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82840" y="4467240"/>
            <a:ext cx="1152360" cy="244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4480" y="361800"/>
            <a:ext cx="9032760" cy="6595920"/>
            <a:chOff x="114480" y="361800"/>
            <a:chExt cx="9032760" cy="6595920"/>
          </a:xfrm>
        </p:grpSpPr>
        <p:sp>
          <p:nvSpPr>
            <p:cNvPr id="183" name=""/>
            <p:cNvSpPr/>
            <p:nvPr/>
          </p:nvSpPr>
          <p:spPr>
            <a:xfrm>
              <a:off x="114480" y="361800"/>
              <a:ext cx="9032760" cy="65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98280" y="57416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8280" y="51940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8280" y="46591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8280" y="41115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8280" y="35762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98280" y="30286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8280" y="24937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8280" y="19461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8280" y="141120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cap="sq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20600" y="4190760"/>
              <a:ext cx="44280" cy="20858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09520" y="4501800"/>
              <a:ext cx="44280" cy="177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98440" y="4736880"/>
              <a:ext cx="44280" cy="1539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8800" y="4993920"/>
              <a:ext cx="44280" cy="12826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7720" y="5205240"/>
              <a:ext cx="44280" cy="1071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66640" y="5249520"/>
              <a:ext cx="44280" cy="1027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5406840"/>
              <a:ext cx="43920" cy="8697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46280" y="5451120"/>
              <a:ext cx="43920" cy="825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5200" y="5584680"/>
              <a:ext cx="43920" cy="691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25560" y="5573520"/>
              <a:ext cx="43920" cy="703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14480" y="5562360"/>
              <a:ext cx="4392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03400" y="5518080"/>
              <a:ext cx="43920" cy="758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93760" y="5562360"/>
              <a:ext cx="4428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82680" y="5640120"/>
              <a:ext cx="4428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71600" y="5640120"/>
              <a:ext cx="4572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1960" y="5663880"/>
              <a:ext cx="33120" cy="612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0080" y="5719680"/>
              <a:ext cx="4392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2864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9360" y="5741640"/>
              <a:ext cx="4392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08280" y="5763960"/>
              <a:ext cx="43920" cy="512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97200" y="5752800"/>
              <a:ext cx="43920" cy="523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87560" y="5741640"/>
              <a:ext cx="4428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6480" y="5808240"/>
              <a:ext cx="4392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5400" y="5775120"/>
              <a:ext cx="43920" cy="501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5576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468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3360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43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2880" y="5808240"/>
              <a:ext cx="4428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180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25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81440" y="5886360"/>
              <a:ext cx="439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703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072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964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385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28920" y="5852880"/>
              <a:ext cx="4428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17840" y="5830560"/>
              <a:ext cx="44280" cy="4460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6760" y="5864040"/>
              <a:ext cx="4572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7480" y="5908320"/>
              <a:ext cx="439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86040" y="5952960"/>
              <a:ext cx="44280" cy="323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74960" y="5875200"/>
              <a:ext cx="457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65680" y="5941800"/>
              <a:ext cx="439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5460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435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33880" y="5897160"/>
              <a:ext cx="331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1164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005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90920" y="5897160"/>
              <a:ext cx="4428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7984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68760" y="5886360"/>
              <a:ext cx="4428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594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484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369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276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166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0552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588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480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737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6408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53000" y="5941800"/>
              <a:ext cx="4428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419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326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2156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01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00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897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78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69040" y="5930640"/>
              <a:ext cx="4428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796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46880" y="5897160"/>
              <a:ext cx="457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7240" y="5797440"/>
              <a:ext cx="44280" cy="4791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2616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15080" y="5941800"/>
              <a:ext cx="457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05800" y="5908320"/>
              <a:ext cx="3276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835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72480" y="5930640"/>
              <a:ext cx="4536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2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517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40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31040" y="5875200"/>
              <a:ext cx="4428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19960" y="5864040"/>
              <a:ext cx="4428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0888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9924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8816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77080" y="5551200"/>
              <a:ext cx="45720" cy="725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7800" y="5194080"/>
              <a:ext cx="43920" cy="1082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56720" y="2817720"/>
              <a:ext cx="43920" cy="3458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945640" y="1981080"/>
              <a:ext cx="45360" cy="4295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8280" y="1411200"/>
              <a:ext cx="1440" cy="48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41400" y="627660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1400" y="57416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41400" y="51940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41400" y="46591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41400" y="41115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41400" y="35762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41400" y="30286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41400" y="24937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41400" y="19461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41400" y="141120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98280" y="627660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998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0872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1761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266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355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444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535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623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712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803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892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981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071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60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249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340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417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506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597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685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74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865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954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043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33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222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311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402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4909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79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670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59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8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938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027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16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206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295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384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475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64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653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743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832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921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011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89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178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68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357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446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537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626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715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805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894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983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73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1624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251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342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431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5196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6103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699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788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8785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9674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056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146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235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24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415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4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927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6834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761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850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940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029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118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208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97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386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8477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566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 flipV="1">
            <a:off x="86504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74080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882972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89186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9009000" y="6246720"/>
            <a:ext cx="180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82840" y="290520"/>
            <a:ext cx="6840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LO BUENO, LO MALO Y LO F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ARGENTINA: DISTRIBUCION DE FRECUENCIA DE APORTANTES AL SIJyP POR CANTIDAD DE APORTES MENSUALES, 1994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70200" y="824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2960" y="11127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0760" y="61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0760" y="5610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0760" y="50641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0760" y="4529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0760" y="39816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0760" y="34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0760" y="28987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760" y="23637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0760" y="1816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0760" y="1281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892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2574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5256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1755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2025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22838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25520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28202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30888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3357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36252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3895200" y="63385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4161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4430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4698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9557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5223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200000">
            <a:off x="5492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5760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60285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62971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65653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6833520" y="6349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71017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7370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76273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78955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81640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8432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87004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78640" y="6593040"/>
            <a:ext cx="26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Cantidad de meses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apor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63880" y="372708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50840" y="3817800"/>
            <a:ext cx="1081080" cy="25196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50840" y="2449440"/>
            <a:ext cx="1665360" cy="765360"/>
          </a:xfrm>
          <a:prstGeom prst="wedgeRectCallout">
            <a:avLst>
              <a:gd name="adj1" fmla="val -16444"/>
              <a:gd name="adj2" fmla="val 120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 malo..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.9% &lt; 11% densidad (1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0188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03560" y="2162160"/>
            <a:ext cx="1665360" cy="765360"/>
          </a:xfrm>
          <a:prstGeom prst="wedgeRectCallout">
            <a:avLst>
              <a:gd name="adj1" fmla="val -26550"/>
              <a:gd name="adj2" fmla="val 1292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feo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63.7% &lt;  66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6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07200" y="1730520"/>
            <a:ext cx="1768320" cy="680760"/>
          </a:xfrm>
          <a:prstGeom prst="wedgeRectCallout">
            <a:avLst>
              <a:gd name="adj1" fmla="val 52152"/>
              <a:gd name="adj2" fmla="val 15279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78480" y="1730520"/>
            <a:ext cx="17287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buen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22.6% &gt; 89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8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50840" y="3530520"/>
            <a:ext cx="5781600" cy="271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91560" y="2954160"/>
            <a:ext cx="1162080" cy="3248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A4E-FD81-48B4-AC55-576258EC456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5400" y="229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ruguay: efectos de la densidad de contribuciones: período base 1996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95280" y="1413000"/>
          <a:ext cx="8226360" cy="526716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4840"/>
                <a:gridCol w="1646280"/>
                <a:gridCol w="1644480"/>
              </a:tblGrid>
              <a:tr h="5202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rción de los trabajadores registrados en Historia Laboral que lograría registrar “x  o más” años de servicio a los 60 y 65 años de edad. Estimación basada en el período 1996-200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 de trabaj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ños de serv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) A los 60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A los 65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Buchelli et al (2005) basado en información de la Unidad de Historia Laboral, ATYR-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7942320" y="3846600"/>
            <a:ext cx="79200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57340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85080" y="29242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4797360"/>
            <a:ext cx="792000" cy="28908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02C-1F20-403D-88CD-231D989E158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773360"/>
            <a:ext cx="2952720" cy="302400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hile: ¿A qué sistema previsional de salud pertenece us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0 S. público Grupo A (indige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S. público Gru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 S. público Gru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 S. público Gru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 S. público No sabe el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 FF AA y del 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6 ISA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41280"/>
            <a:ext cx="81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5375160"/>
            <a:ext cx="2952720" cy="136692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rasi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ão 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em decla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1773360"/>
            <a:ext cx="2520720" cy="48988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Méx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M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SS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decl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33600" y="1773360"/>
            <a:ext cx="2967120" cy="50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lombia: esta afiliado al régimen contributivo o subsidia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Contrib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s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ubsidi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¿Quién paga mensualmente por la afili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Le descuentan de la nómina o sal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Es beneficiario de algún fam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totalidad de su afil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sabe no in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5DF-22FE-4095-A892-79350DAF8C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jemplo Costa Rica: Encuesta Hogares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980240" cy="58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B7E-23AE-4F57-A869-D555256288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Datos de cober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35520" y="571320"/>
            <a:ext cx="832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Latinoamérica. % de ocupados con protección social contributiva basada en el empleo (2005)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135080"/>
            <a:ext cx="8748720" cy="5499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6280" y="6363360"/>
            <a:ext cx="69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de hogares SIAL/OIT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002-6E11-497B-AE8E-59F563CD60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1720" y="663480"/>
            <a:ext cx="573228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12400" y="6395760"/>
            <a:ext cx="454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de hogares SIAL/OIT, 200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56600" y="315000"/>
            <a:ext cx="775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Latinoamérica (países seleccionados): % de ocupados cotizantes a seguridad social en salud (2005)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3F6-A964-4AB1-9392-D9BC272613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50:11Z</dcterms:created>
  <dc:creator>Fabio M. Bertranou</dc:creator>
  <dc:description/>
  <cp:keywords/>
  <dc:language>en-US</dc:language>
  <cp:lastModifiedBy>ILO</cp:lastModifiedBy>
  <cp:lastPrinted>2003-08-16T21:20:24Z</cp:lastPrinted>
  <dcterms:modified xsi:type="dcterms:W3CDTF">2009-09-24T16:24:22Z</dcterms:modified>
  <cp:revision>331</cp:revision>
  <dc:subject/>
  <dc:title>Cobertura proteccion social en AL</dc:title>
</cp:coreProperties>
</file>