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0.wmf" ContentType="image/x-wmf"/>
  <Override PartName="/ppt/media/image2.png" ContentType="image/png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50000" cy="37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3992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20680" y="93992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ECBD1A-F240-421E-AF27-1FB4F8C523C1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820680" y="93992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D575F5-8C40-4D09-87B8-6980F915A8CF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93992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884160" y="7588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06480" y="4707000"/>
            <a:ext cx="4914720" cy="449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820680" y="93992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C146A6-CC69-443A-AA8D-5D2F3461314C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93992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186F-4B38-4DEE-BC89-430609A8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FE2-14DE-4A23-B57E-9544F5FD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A28C-FB2C-4E8C-B263-5B95E38B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41ED-DFC2-460E-A08C-0547F08C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8001-5AB0-4E94-8BFA-9DB6F3CA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992-F9FD-4BDB-98BC-70A0F262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C38-3B7C-4833-AB6F-7083E8C3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344-F050-4C4A-8469-9270D51B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7F4-9E56-4625-BE3B-4BE377E5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8921-E86B-4ABC-8769-EBCE433B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687-6202-47BB-9DE0-8B9B1C73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1C7-39BD-4A1F-9D05-6B6A67C1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20A2-5DF8-4FD8-80DF-6CE94243329F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920" y="1858680"/>
            <a:ext cx="68421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Cobertura de los sistemas de protección social: definiciones, fuentes de datos, indicad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03280" y="5587920"/>
            <a:ext cx="374508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Fabio Durán Valver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Oficina Internacional del Trabajo</a:t>
            </a:r>
            <a:br>
              <a:rPr sz="1600"/>
            </a:b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OSRA, Per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4081320"/>
            <a:ext cx="7274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urso Estrategias para la extensión de la protecció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San José, Costa Rica, julio d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924360" y="936720"/>
            <a:ext cx="10792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imes New Roman"/>
              </a:rPr>
              <a:t>Medición de la cobertura de pen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9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Tradicionalmente dos tipos de medic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roporción de la fuerza laboral que cotiza: alcance de cobertura con vinculación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roporción de adultos mayores jubilados /pensionad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4876920"/>
            <a:ext cx="3124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5915160"/>
            <a:ext cx="403848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Extensión de la cobertur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70F-94C3-4B0B-9215-135DD6A5AA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00"/>
                </a:solidFill>
                <a:latin typeface="Times New Roman"/>
              </a:rPr>
              <a:t>Cobertura en pensiones según modelo de financia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Beneficio defi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Contribución definida (cuentas individuales, ahorro individu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F01-568E-429E-AD80-E54986615A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Medición de cobertura de pensiones en adultos may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708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Refleja el desempeño del mercado laboral y la protección que otorgaban los sistemas contributivos en funcionamiento décadas atr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Refleja la protección que brinda el componente no contributivo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6C4-355F-4874-8C7D-9AC1036831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Medición de cobertura en sistemas contribu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Proporción de cotizantes es un indicador parcial e incompleto para medir cobertura de riesgos de vejez, invalidez y sobreviv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un cotizante (durante un período) puede no necesariamente tener derecho a 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un no cotizante puede estar cubierto (con derecho consolid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FD7A-3AC2-4CFA-9D69-609891E8CA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Medición de cobertura en sistemas contributivos de capitalización individ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n regímenes de capitalización individual debería contemplarse la diferencia entre el saldo efectivo y el saldo teórico para un determinado nivel de pensión 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Regímenes cuentan con garantías estatales (pensiones mínimas) y/o están insertos en esquemas mixtos, consecuentemente hay “no linealidades” en la cober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7776-2EE0-4121-AA0A-BF28C40FF1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En resumen: la medición de cobertu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Debe medir no sól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Times New Roman"/>
              </a:rPr>
              <a:t>Extens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antidad de trabajadores/personas cubier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otizante/beneficiario, cónyuge, hijos men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Sino tambié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Times New Roman"/>
              </a:rPr>
              <a:t>Profund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nivel de prestaciones actuales/poten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6DAA-1DB4-4F97-AC65-038DA8352D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Fuentes de 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rincipales fuentes de 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Registros administrativos institu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ncuestas de hog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ncuestas de ingresos y ga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ncuesta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300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Necesidad de combinar datos de diversas fuentes para la construcción de indicadores.  Precaución al combinar fuentes d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E6D7-1904-4B27-AFCD-96E8ED2FFC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Registros administrativos: lo míni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Sector 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Categoría ocup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Rama de activ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Ubicación geográfica (de la empresa / de la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Tamaño de establecimiento (número de emple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2FF-CAC6-45EF-B7A5-5E9DA7F5D5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imes New Roman"/>
              </a:rPr>
              <a:t>Las preguntas para estimar cobertura en las encuestas de hogares en 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763640"/>
            <a:ext cx="2592360" cy="1160640"/>
          </a:xfrm>
          <a:prstGeom prst="rect">
            <a:avLst/>
          </a:prstGeom>
          <a:solidFill>
            <a:srgbClr val="9fc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Uruguay: ¿En este trabajo tiene derecho a jubilació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3068640"/>
            <a:ext cx="2606760" cy="1584360"/>
          </a:xfrm>
          <a:prstGeom prst="rect">
            <a:avLst/>
          </a:prstGeom>
          <a:solidFill>
            <a:srgbClr val="ff9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Perú: ¿Ud. actualmente está afiliado a : ESSALUD ( antes IPS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Times New Roman"/>
              </a:rPr>
              <a:t>-Es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Times New Roman"/>
              </a:rPr>
              <a:t>-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724280"/>
            <a:ext cx="2592360" cy="1909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Panamá:  Categoría de aseguramien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Cotizante y jubilado a la seguridad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Benefici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No cotizante a la seguridad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1773360"/>
            <a:ext cx="2606760" cy="266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Ecuador: Está afiliado o cubierto por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IESS Seguro Campes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ingu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Medicina Preven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IESS Seguro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ISSFA, ISSP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eguro de salud priv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25960" y="1773360"/>
            <a:ext cx="2967120" cy="4813200"/>
          </a:xfrm>
          <a:prstGeom prst="rect">
            <a:avLst/>
          </a:prstGeom>
          <a:solidFill>
            <a:srgbClr val="6d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500" spc="-1" strike="noStrike">
                <a:solidFill>
                  <a:srgbClr val="000000"/>
                </a:solidFill>
                <a:latin typeface="Times New Roman"/>
              </a:rPr>
              <a:t>Costa Rica: ¿qué tipo de seguro social tiene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   Asalari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2   Mediante Conven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3   Cuenta Prop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4   Por el Est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5   Familiar de Asegurado Direc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6   Régimen No Contributivo Monto Bás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7   Pensionado Régimen IVM de la CC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8   Familiar de Pension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9   Otras Form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0  No Asegur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1  Régimen No Contributivo de Gracia o Guer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2  Régimen Magisterio, Poder Judicial, Haciend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99  Ignorad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5080" y="4581360"/>
            <a:ext cx="2519280" cy="2016360"/>
          </a:xfrm>
          <a:prstGeom prst="rect">
            <a:avLst/>
          </a:prstGeom>
          <a:solidFill>
            <a:srgbClr val="ffc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Argentina: ¿para este trabajo tiene descuento jubilatori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E1F-C672-4C49-A5B3-292F356C29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0920" y="1773360"/>
            <a:ext cx="2952720" cy="302400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Chile: ¿A qué sistema previsional de salud pertenece us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0 S. público Grupo A (indigen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1 S. público Grup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2 S. público Grup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3 S. público Grup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4 S. público No sabe el gru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5 FF AA y del O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6 ISA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7 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341280"/>
            <a:ext cx="81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Las preguntas para estimar cobertura en las encuestas de hogares en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5375160"/>
            <a:ext cx="2952720" cy="1366920"/>
          </a:xfrm>
          <a:prstGeom prst="rect">
            <a:avLst/>
          </a:prstGeom>
          <a:solidFill>
            <a:srgbClr val="ffc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Brasi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Contribui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ão contribui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Sem decla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72360" y="1773360"/>
            <a:ext cx="2520720" cy="4898880"/>
          </a:xfrm>
          <a:prstGeom prst="rect">
            <a:avLst/>
          </a:prstGeom>
          <a:solidFill>
            <a:srgbClr val="97ff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Méxic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En el trabajo principal de la semana pasada, cuáles de las siguientes prestaciones le dan..</a:t>
            </a: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IM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En el trabajo principal de la semana pasada, cuáles de las siguientes prestaciones le dan..</a:t>
            </a: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ISS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o ap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o decl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Si</a:t>
            </a: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33600" y="1773360"/>
            <a:ext cx="2967120" cy="50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Colombia: esta afiliado al régimen contributivo o subsidiad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Contribu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 ap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 s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ubsidi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¿Quién paga mensualmente por la afiliació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Le descuentan de la nómina o sal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No ap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Paga la empresa donde traba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Es beneficiario de algún famili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Paga la empresa empresa donde traba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Paga la totalidad de su afil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No sabe no inf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6F5-D70F-435D-81B9-12DD44175B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jemplo Costa Rica: Encuesta Hogares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4980240" cy="58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929-ACCC-4316-82DE-980F3B8ABE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Datos de cober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5520" y="571320"/>
            <a:ext cx="832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Latinoamérica. % de ocupados con protección social contributiva basada en el empleo (2005)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135080"/>
            <a:ext cx="8748720" cy="5499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6280" y="6363360"/>
            <a:ext cx="697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Fuente: Durán Valverde, Fabio.  Elaboración basada en encuestas de hogares SIAL/OIT, 200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627F-D0DE-4F8B-99B6-CA16A582F9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71720" y="663480"/>
            <a:ext cx="5732280" cy="5823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12400" y="6395760"/>
            <a:ext cx="454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Fuente: Durán Valverde, Fabio.  Elaboración basada en encuesta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de hogares SIAL/OIT, 2005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56600" y="315000"/>
            <a:ext cx="775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Latinoamérica (países seleccionados): % de ocupados cotizantes a seguridad social en salud (2005).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49A7-AB76-4345-AADC-00661E3CB6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tizantes en relaci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con la PEA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1981080"/>
          <a:ext cx="8763120" cy="371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76312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222200" y="57913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6099-9B49-4F90-8AA6-97EBDDD38D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125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tizantes en relaci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con la PEA ocupada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2200" y="57913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2209680"/>
          <a:ext cx="8458200" cy="36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09680"/>
                    <a:ext cx="845820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F06-9AA8-4359-8C98-963F6D046E3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125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tizantes en relaci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a la PEA ocupada asalariada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22200" y="57913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2389320"/>
          <a:ext cx="8077320" cy="342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89320"/>
                    <a:ext cx="8077320" cy="34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05F7-2249-4E1A-A750-E9F0138148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7779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574640"/>
            <a:ext cx="720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1844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57520" y="3876840"/>
            <a:ext cx="36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592200"/>
          <a:ext cx="8640720" cy="6265800"/>
        </p:xfrm>
        <a:graphic>
          <a:graphicData uri="http://schemas.openxmlformats.org/drawingml/2006/table">
            <a:tbl>
              <a:tblPr/>
              <a:tblGrid>
                <a:gridCol w="2511360"/>
                <a:gridCol w="1298520"/>
                <a:gridCol w="1230480"/>
                <a:gridCol w="1184400"/>
                <a:gridCol w="1209600"/>
                <a:gridCol w="120636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7430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REVISIO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nti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ntil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5/Q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ul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(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(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(1999/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8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3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a Ric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 (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 (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aragua (2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ama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. Dominican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ezuel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ente: Elaboración basada en Rofman (2005), Rofman y Luchetti (2005) y otras fuent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8836-3CF1-4BF2-B852-3609627872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3068640"/>
            <a:ext cx="671976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Buena aproximación de la extensión pero ciertamente insuficient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75EB-027D-48DE-8AE2-03FBC1459C0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00"/>
                </a:solidFill>
                <a:latin typeface="Times New Roman"/>
              </a:rPr>
              <a:t>Algunas definiciones de pob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Población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Población en edad de trabaj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Población Económicamente Activa (PEA) o fuerza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Población Económicamente Inactiva (PEI): menores, adultos mayores, otros colectivos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Indicadores básicos: TBP, tasas refinadas de actividad, dependencia demográfica, otr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B49-EEC5-4C08-A9C8-690B362DED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Cobertura Previsional (pensiones) en Chile: Población 65 años y má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1371600"/>
          <a:ext cx="72388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72388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590920" y="182880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1676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75.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79.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81680" y="3048120"/>
            <a:ext cx="2057400" cy="3035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ber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ntributivo disminuye (67.1 a 64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no contrib. aumenta (8.3 a 14.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D91A-11F3-4F43-9658-7A814745EAE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9866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Lationamérica: cobertura de pensiones en los adultos may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1400" y="610704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2090880"/>
          <a:ext cx="8839080" cy="376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90880"/>
                    <a:ext cx="8839080" cy="37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A25-E02B-47D0-BC26-51F8B31EA0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Bras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85800" y="1828800"/>
          <a:ext cx="7772400" cy="40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77240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2D5-A0A8-4C79-B522-2D52DA5B02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Bras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204920" y="2209680"/>
          <a:ext cx="7213680" cy="36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2209680"/>
                    <a:ext cx="721368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4857-E7B5-42D8-9FCE-D0263CAEDD8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Bolivia y Chile: componentes contributivos y no contribu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14400" y="2284560"/>
          <a:ext cx="7467480" cy="381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4560"/>
                    <a:ext cx="7467480" cy="38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719-ED41-42C0-B776-DB884EB629B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Costa Rica y Ecuador: componentes contributivos y no contribu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14400" y="2284560"/>
          <a:ext cx="7467480" cy="381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4560"/>
                    <a:ext cx="7467480" cy="38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7BB-209B-4FE4-B5DA-8E37999994A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por quintiles de ingreso: Bolivia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Año 200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8680" y="5105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3076560"/>
          <a:ext cx="8686800" cy="150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76560"/>
                    <a:ext cx="868680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2F5-D0A1-4241-9A8D-7047FCA31C7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por quintiles de ingreso: Chile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Año 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8680" y="5105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4920" y="3076560"/>
          <a:ext cx="8686800" cy="150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76560"/>
                    <a:ext cx="868680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E854-7C00-4CF3-B8A4-BD609BD284D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anamá (200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9280" y="1398600"/>
            <a:ext cx="891540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DB5-4FA1-427D-8A56-A3524CE8982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anamá (200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2360" y="1844640"/>
            <a:ext cx="84963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4DEF-9DAE-49A8-8B16-4A0A051F324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imes New Roman"/>
              </a:rPr>
              <a:t>Clasificaciones principales para el análisis de la cobertura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Sector institucional: público / pri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Rama de actividad económica (producto/servicio princip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Categoría ocupacional: inse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Tamaño de establ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Pobreza / niveles de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Ámbito geográfico: urbano/rural, territorios administrativos, territorios de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Formal / inf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Poblaciones tradicionalmente marginadas: indígen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98F-9C18-4967-B85E-61D3B531E2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anamá (199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2280" y="1873080"/>
            <a:ext cx="8915400" cy="494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C594-1E1C-4621-BDCF-97D353BD431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Guatemala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95280" y="1623960"/>
          <a:ext cx="7921800" cy="48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3960"/>
                    <a:ext cx="792180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24FC-4F97-4190-9347-D9B93715E44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Guatemala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979640" y="1562040"/>
          <a:ext cx="4673520" cy="51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62040"/>
                    <a:ext cx="467352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7B69-67D9-48F7-A8E9-D72F152A774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935000"/>
            <a:ext cx="4581360" cy="425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4500720" y="1916280"/>
          <a:ext cx="4643280" cy="432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1916280"/>
                    <a:ext cx="464328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Guatemala 199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960" y="6235560"/>
            <a:ext cx="660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Times New Roman"/>
              </a:rPr>
              <a:t>Fuente: (PNUD. Durán, Fabio). Encuesta Nacional de Ingresos y Gastos Familiares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0423-E313-45BD-9BF6-2045A3F535E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erú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71640" y="1952640"/>
            <a:ext cx="7272360" cy="38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EBA-B2F9-4920-9AC7-50B9ECC1E21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erú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6560" y="2174760"/>
            <a:ext cx="8209080" cy="4062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08960" y="6261120"/>
            <a:ext cx="75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Fuente: OIT. Durán, Fabio.  Estudio financiero-actuarial y de la gestión de EsSalud,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02A2-B369-47B6-813A-BC1A611B80D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Costa Rica: 1993-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32000" y="1222200"/>
            <a:ext cx="6048360" cy="553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73C-9228-48B7-A5C8-B2A26FDCB85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Ecuador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422360" y="1440000"/>
            <a:ext cx="6605640" cy="54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0959-FC81-46D7-914C-9EFAD3A2CF7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Ecuador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8000" y="2673360"/>
            <a:ext cx="9001080" cy="31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A5F-8C1A-4CC5-B2A6-996E044203C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9640" y="1844640"/>
            <a:ext cx="7705800" cy="48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les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 productiva: sector primario, secundario, terciari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alidades de inserción productiva: categoría ocupacional y sector institucional (público / priva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año relativo de la economía formal versus economía inf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ralidad / disp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dad contribut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structurales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 program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o jurídico (compulsión e inspec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en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cias en la gestión –percepción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 previsi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Algunos factores explicativos de la cobertura (resum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5EBD-43D0-43D2-A46D-350C2AD4E34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00"/>
                </a:solidFill>
                <a:latin typeface="Times New Roman"/>
              </a:rPr>
              <a:t>Diferentes conceptos de adhesión a los sistemas de seguridad so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Asegurado directo (asalariado, no asalariado, con subsidio estatal o no contributiv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Asegurado indirecto (protección famili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Afili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Cotizante (aportación activa vig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Asegurado (con derecho consolidado a la pres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659-371E-4828-AA15-19378F86E1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6212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Algunos tópicos relacionados con cober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84D8-74AD-46BB-8201-D84FF42147C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26920" y="878040"/>
            <a:ext cx="8137800" cy="5557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158120" y="6451560"/>
            <a:ext cx="42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Times New Roman"/>
              </a:rPr>
              <a:t>Durán, Fabio. </a:t>
            </a:r>
            <a:r>
              <a:rPr b="0" i="1" lang="es-PE" sz="1400" spc="-1" strike="noStrike">
                <a:solidFill>
                  <a:srgbClr val="000000"/>
                </a:solidFill>
                <a:latin typeface="Times New Roman"/>
              </a:rPr>
              <a:t>Encuestas de hogares, SIAL/OIT Panamá.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6C6-3DBD-41E8-AF68-45AFA50044F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Times New Roman"/>
              </a:rPr>
              <a:t>Diferentes densidades de cotización por sexo, generarán diferentes niveles de pensión, especialmente en cuentas individuales (inequidad de gén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-34920" y="2163600"/>
            <a:ext cx="5111640" cy="4087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852720" y="2182680"/>
            <a:ext cx="5232600" cy="4046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95280" y="321300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82A6-D427-4F79-B669-33C25458BFB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El aumento de la longevidad es un reto para la cobertura en los sistemas de pen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89080" y="2208240"/>
            <a:ext cx="6983280" cy="48211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66760" y="1508040"/>
            <a:ext cx="7508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Esperanza de vida a los 65 años y variación, según sex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países seleccionados,  1960-205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803B-4620-46F4-B152-CA82CE40D63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848360" cy="5462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5640" y="6375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arreras salariales en ramas económicas seleccionadas. Costa Rica (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6680" y="6538320"/>
            <a:ext cx="28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Fuente: CCSS, Dirección Actuarial, 2006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6F13-EEF8-485F-AD58-BE3AAC8753B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056360" cy="4703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7164360" cy="47768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372360" y="620640"/>
            <a:ext cx="2447640" cy="5198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gímenes de pensiones contributiv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cumulación de “derechos” previsionales a lo largo del ciclo laboral para hombres y 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rgentina, Encuesta de Condiciones de Vida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44B3-D155-44AA-884E-8D48EB07FC0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5796000" cy="3864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643280" y="765000"/>
            <a:ext cx="5904000" cy="39373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427640" y="3789360"/>
            <a:ext cx="6192720" cy="41274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24000" y="765000"/>
            <a:ext cx="4103640" cy="2712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gímenes de pensiones contributiv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ños aportados al sistema previsional para hombres y mujeres a la edad legal de ret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rgentina, Encuesta de Condiciones de Vida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D516-E1A0-4780-9BDC-A26CE275CC6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482840" y="4467240"/>
            <a:ext cx="1152360" cy="2448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14480" y="361800"/>
            <a:ext cx="9032760" cy="6595920"/>
            <a:chOff x="114480" y="361800"/>
            <a:chExt cx="9032760" cy="6595920"/>
          </a:xfrm>
        </p:grpSpPr>
        <p:sp>
          <p:nvSpPr>
            <p:cNvPr id="222" name=""/>
            <p:cNvSpPr/>
            <p:nvPr/>
          </p:nvSpPr>
          <p:spPr>
            <a:xfrm>
              <a:off x="114480" y="361800"/>
              <a:ext cx="9032760" cy="65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98280" y="1411200"/>
              <a:ext cx="8015040" cy="48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98280" y="5741640"/>
              <a:ext cx="80150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98280" y="519408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98280" y="465912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98280" y="411156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98280" y="3576240"/>
              <a:ext cx="80150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98280" y="302868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98280" y="249372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8280" y="194616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98280" y="141120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98280" y="1411200"/>
              <a:ext cx="8015040" cy="4865400"/>
            </a:xfrm>
            <a:prstGeom prst="rect">
              <a:avLst/>
            </a:prstGeom>
            <a:noFill/>
            <a:ln cap="sq"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20600" y="4190760"/>
              <a:ext cx="44280" cy="20858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09520" y="4501800"/>
              <a:ext cx="44280" cy="177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98440" y="4736880"/>
              <a:ext cx="44280" cy="1539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88800" y="4993920"/>
              <a:ext cx="44280" cy="12826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77720" y="5205240"/>
              <a:ext cx="44280" cy="10713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66640" y="5249520"/>
              <a:ext cx="44280" cy="10270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57360" y="5406840"/>
              <a:ext cx="43920" cy="8697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46280" y="5451120"/>
              <a:ext cx="43920" cy="825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35200" y="5584680"/>
              <a:ext cx="43920" cy="691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25560" y="5573520"/>
              <a:ext cx="43920" cy="7030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14480" y="5562360"/>
              <a:ext cx="43920" cy="714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03400" y="5518080"/>
              <a:ext cx="43920" cy="7585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93760" y="5562360"/>
              <a:ext cx="44280" cy="714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82680" y="5640120"/>
              <a:ext cx="44280" cy="636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71600" y="5640120"/>
              <a:ext cx="45720" cy="636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61960" y="5663880"/>
              <a:ext cx="33120" cy="612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40080" y="5719680"/>
              <a:ext cx="43920" cy="556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28640" y="5719680"/>
              <a:ext cx="44280" cy="556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19360" y="5741640"/>
              <a:ext cx="43920" cy="534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08280" y="5763960"/>
              <a:ext cx="43920" cy="5126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97200" y="5752800"/>
              <a:ext cx="43920" cy="523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87560" y="5741640"/>
              <a:ext cx="44280" cy="534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76480" y="5808240"/>
              <a:ext cx="43920" cy="4683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65400" y="5775120"/>
              <a:ext cx="43920" cy="501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55760" y="5786280"/>
              <a:ext cx="44280" cy="4903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44680" y="5819400"/>
              <a:ext cx="44280" cy="4572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33600" y="5819400"/>
              <a:ext cx="44280" cy="4572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24320" y="5852880"/>
              <a:ext cx="43920" cy="423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12880" y="5808240"/>
              <a:ext cx="44280" cy="4683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01800" y="5841720"/>
              <a:ext cx="4428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2520" y="5852880"/>
              <a:ext cx="43920" cy="423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81440" y="5886360"/>
              <a:ext cx="4392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70360" y="5875200"/>
              <a:ext cx="439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60720" y="5841720"/>
              <a:ext cx="439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49640" y="5841720"/>
              <a:ext cx="439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38560" y="5841720"/>
              <a:ext cx="457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28920" y="5852880"/>
              <a:ext cx="44280" cy="423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17840" y="5830560"/>
              <a:ext cx="44280" cy="4460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06760" y="5864040"/>
              <a:ext cx="45720" cy="4125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97480" y="5908320"/>
              <a:ext cx="439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040" y="5952960"/>
              <a:ext cx="44280" cy="3236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74960" y="5875200"/>
              <a:ext cx="457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65680" y="5941800"/>
              <a:ext cx="43920" cy="33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54600" y="5897160"/>
              <a:ext cx="439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43520" y="5886360"/>
              <a:ext cx="4572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33880" y="5897160"/>
              <a:ext cx="331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111640" y="5919480"/>
              <a:ext cx="4428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00560" y="5875200"/>
              <a:ext cx="439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90920" y="5897160"/>
              <a:ext cx="4428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79840" y="5908320"/>
              <a:ext cx="4428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68760" y="5886360"/>
              <a:ext cx="4428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48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48400" y="5919480"/>
              <a:ext cx="439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36960" y="5841720"/>
              <a:ext cx="457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82768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16600" y="5919480"/>
              <a:ext cx="439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05520" y="5908320"/>
              <a:ext cx="457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5880" y="5908320"/>
              <a:ext cx="4428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84800" y="5919480"/>
              <a:ext cx="4428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3720" y="5919480"/>
              <a:ext cx="457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64080" y="5919480"/>
              <a:ext cx="4428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53000" y="5941800"/>
              <a:ext cx="44280" cy="33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41920" y="5886360"/>
              <a:ext cx="4572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3264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21560" y="5897160"/>
              <a:ext cx="439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10120" y="5919480"/>
              <a:ext cx="457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0084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89760" y="5875200"/>
              <a:ext cx="439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78680" y="5908320"/>
              <a:ext cx="457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69040" y="5930640"/>
              <a:ext cx="4428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57960" y="5919480"/>
              <a:ext cx="439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346880" y="5897160"/>
              <a:ext cx="457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437240" y="5797440"/>
              <a:ext cx="44280" cy="4791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26160" y="5841720"/>
              <a:ext cx="4428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15080" y="5941800"/>
              <a:ext cx="45720" cy="33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05800" y="5908320"/>
              <a:ext cx="3276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78356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72480" y="5930640"/>
              <a:ext cx="4536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6284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5176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40680" y="5908320"/>
              <a:ext cx="457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231040" y="5875200"/>
              <a:ext cx="4428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19960" y="5864040"/>
              <a:ext cx="44280" cy="4125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408880" y="5841720"/>
              <a:ext cx="457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499240" y="5786280"/>
              <a:ext cx="44280" cy="4903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588160" y="5719680"/>
              <a:ext cx="44280" cy="556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677080" y="5551200"/>
              <a:ext cx="45720" cy="725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767800" y="5194080"/>
              <a:ext cx="43920" cy="10825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856720" y="2817720"/>
              <a:ext cx="43920" cy="3458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945640" y="1981080"/>
              <a:ext cx="45360" cy="42955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98280" y="1411200"/>
              <a:ext cx="1440" cy="48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41400" y="6276600"/>
              <a:ext cx="5652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41400" y="5741640"/>
              <a:ext cx="5652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41400" y="519408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41400" y="465912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41400" y="411156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41400" y="3576240"/>
              <a:ext cx="5652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41400" y="302868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41400" y="249372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41400" y="194616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41400" y="141120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98280" y="6276600"/>
              <a:ext cx="80150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9982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10872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1761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12668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13557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4446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1535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1623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17128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1803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18921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9810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20714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21603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2492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2340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4177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5066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597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685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7748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865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9541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30430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1338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32223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3112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402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4909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5798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670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7591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848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9384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0273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6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206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42955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43844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4475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5640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4653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7433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832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921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011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50893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178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5268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53578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54468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5537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6260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5715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8053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894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5983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073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1624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2514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3421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6431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65196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6103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6992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788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8785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9674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70563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1467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2356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324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7415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504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75927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6834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7612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7850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79405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80294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81183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2087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82976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8386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8477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8566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 flipV="1">
            <a:off x="865044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874080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882972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891864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9009000" y="6246720"/>
            <a:ext cx="180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82840" y="290520"/>
            <a:ext cx="6840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LO BUENO, LO MALO Y LO F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ARGENTINA: DISTRIBUCION DE FRECUENCIA DE APORTANTES AL SIJyP POR CANTIDAD DE APORTES MENSUALES, 1994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70200" y="82404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82960" y="111276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0760" y="61466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0760" y="56102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0760" y="50641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0760" y="452916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760" y="398160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00760" y="34466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0760" y="28987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00760" y="236376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00760" y="181620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0760" y="12812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6200000">
            <a:off x="989280" y="6312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1257480" y="6312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6200000">
            <a:off x="1525680" y="6312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17553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20250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228384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16200000">
            <a:off x="255204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282024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16200000">
            <a:off x="30888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16200000">
            <a:off x="33570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6200000">
            <a:off x="36252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6200000">
            <a:off x="3895200" y="633852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41619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44301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16200000">
            <a:off x="46983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6200000">
            <a:off x="49557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52239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54921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57603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16200000">
            <a:off x="60285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16200000">
            <a:off x="629712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656532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6833520" y="6349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710172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73702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762732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6200000">
            <a:off x="789552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6200000">
            <a:off x="81640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6200000">
            <a:off x="84322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16200000">
            <a:off x="87004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78640" y="6593040"/>
            <a:ext cx="263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Verdana"/>
              </a:rPr>
              <a:t>Cantidad de meses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cc99"/>
                </a:solidFill>
                <a:latin typeface="Verdana"/>
              </a:rPr>
              <a:t>apor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rot="16200000">
            <a:off x="263880" y="372708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50840" y="3817800"/>
            <a:ext cx="1081080" cy="25196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50840" y="2449440"/>
            <a:ext cx="1665360" cy="765360"/>
          </a:xfrm>
          <a:prstGeom prst="wedgeRectCallout">
            <a:avLst>
              <a:gd name="adj1" fmla="val -16444"/>
              <a:gd name="adj2" fmla="val 12054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o malo..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1.9% &lt; 11% densidad (10 apor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01880" y="373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03560" y="2162160"/>
            <a:ext cx="1665360" cy="765360"/>
          </a:xfrm>
          <a:prstGeom prst="wedgeRectCallout">
            <a:avLst>
              <a:gd name="adj1" fmla="val -26550"/>
              <a:gd name="adj2" fmla="val 12925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Lo feo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63.7% &lt;  66% den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(60 apor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307200" y="1730520"/>
            <a:ext cx="1768320" cy="680760"/>
          </a:xfrm>
          <a:prstGeom prst="wedgeRectCallout">
            <a:avLst>
              <a:gd name="adj1" fmla="val 52152"/>
              <a:gd name="adj2" fmla="val 15279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78480" y="1730520"/>
            <a:ext cx="17287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Lo buen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22.6% &gt; 89% den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(80 apor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50840" y="3530520"/>
            <a:ext cx="5781600" cy="271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891560" y="2954160"/>
            <a:ext cx="1162080" cy="3248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D12-42B7-472F-B1C6-7EE11AF6BCA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400" y="2296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Uruguay: efectos de la densidad de contribuciones: período base 1996-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395280" y="1413000"/>
          <a:ext cx="8226360" cy="5267160"/>
        </p:xfrm>
        <a:graphic>
          <a:graphicData uri="http://schemas.openxmlformats.org/drawingml/2006/table">
            <a:tbl>
              <a:tblPr/>
              <a:tblGrid>
                <a:gridCol w="1644480"/>
                <a:gridCol w="1646280"/>
                <a:gridCol w="1644840"/>
                <a:gridCol w="1646280"/>
                <a:gridCol w="1644480"/>
              </a:tblGrid>
              <a:tr h="5202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rción de los trabajadores registrados en Historia Laboral que lograría registrar “x  o más” años de servicio a los 60 y 65 años de edad. Estimación basada en el período 1996-200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egoría de trabaj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ños de servi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) A los 60 años de e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To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. Hom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. Muj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 Priv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. Públ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 A los 65 años de e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To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. Hom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. Muj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 Priv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. Públ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Buchelli et al (2005) basado en información de la Unidad de Historia Laboral, ATYR-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7942320" y="3846600"/>
            <a:ext cx="79200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885080" y="5734080"/>
            <a:ext cx="79236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885080" y="2924280"/>
            <a:ext cx="79236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0" y="4797360"/>
            <a:ext cx="792000" cy="28908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E35-811E-4087-9912-93F21EC5C73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00"/>
                </a:solidFill>
                <a:latin typeface="Times New Roman"/>
              </a:rPr>
              <a:t>Diferentes conceptos de cobertura requieren diferentes indicad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Contributiva (compulsi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No contributiva (prueba de medi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Horizontal / ver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De acceso (salu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Legal / estadíst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094-D3DB-457B-B4E3-FC94872E21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s-CR" sz="4000" spc="-1" strike="noStrike">
                <a:solidFill>
                  <a:srgbClr val="000000"/>
                </a:solidFill>
                <a:latin typeface="Times New Roman"/>
              </a:rPr>
              <a:t>Diferentes conceptos de cobertura requieren diferentes indicad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18840"/>
            <a:ext cx="777240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Cobertura contributiva (vinculación laboral / financiamiento)  ¿Quién pag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Cobertura de acceso a prestaciones: salud, pen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Cobertura no contribu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5516640"/>
            <a:ext cx="712800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bertura en el Convenio 102 de OIT, Norma Mínima de Seguridad Social: sistemas universales versus sistemas bismarcki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B7DA-2EB9-40CD-A0F0-2529C8999C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Cobertura horizontal / vert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3333cc"/>
                </a:solidFill>
                <a:latin typeface="Times New Roman"/>
              </a:rPr>
              <a:t>Horizontal</a:t>
            </a: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:  población proteg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3333cc"/>
                </a:solidFill>
                <a:latin typeface="Times New Roman"/>
              </a:rPr>
              <a:t>Vertical</a:t>
            </a: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: nivel de las pres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Salud: contenido del conjunto de prestaciones en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Pensiones: tasa de reemplazo o sustitu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495-0B55-4A6C-BBFE-4A2BEB7670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Times New Roman"/>
              </a:rPr>
              <a:t>Medición de la cobertura contributiva (con vinculación labo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3357360"/>
            <a:ext cx="4032000" cy="2385720"/>
          </a:xfrm>
          <a:prstGeom prst="rect">
            <a:avLst/>
          </a:prstGeom>
          <a:solidFill>
            <a:srgbClr val="ffcde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En relaci</a:t>
            </a: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con la P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 relación con la PEA ocup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 relación con la PEA ocupada asalar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 relación con la PEA ocupada no asalar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62560" y="2852640"/>
            <a:ext cx="504720" cy="3384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843280"/>
            <a:ext cx="320364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Sector institu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Rama de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Categoría ocup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Tamaño de establ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Pobreza / ingr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Ámbito geográfic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Formal / in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Poblaciones margi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Sex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81600" y="4156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852640"/>
            <a:ext cx="446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ndicadores centr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6CD-1E6A-4DCD-AE20-AFF74B5F14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8:50:11Z</dcterms:created>
  <dc:creator>Fabio M. Bertranou</dc:creator>
  <dc:description/>
  <cp:keywords/>
  <dc:language>en-US</dc:language>
  <cp:lastModifiedBy>ILO</cp:lastModifiedBy>
  <cp:lastPrinted>2003-08-16T21:20:24Z</cp:lastPrinted>
  <dcterms:modified xsi:type="dcterms:W3CDTF">2009-09-24T16:14:30Z</dcterms:modified>
  <cp:revision>330</cp:revision>
  <dc:subject/>
  <dc:title>Cobertura proteccion social en AL</dc:title>
</cp:coreProperties>
</file>